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15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1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AAC-15F5-4F2D-931C-E4961138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6D2-B648-483B-BB0C-421A89C0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92C-E1E2-43A0-97FF-8D0C1A72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E4C-0CEB-4883-9E2A-E34939AD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62B-6C3C-4DA1-8D83-C3B1C44A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3F1-1D1B-43B9-9853-A81CFD87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60D-AB3F-4B8F-9992-B687B990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3C0-FE0F-45FD-BA9D-9B9920D9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3FB-333D-405E-82B7-13433055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8DE-BF65-4966-9A81-02C62A79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4E9-F1C3-4CA5-B36A-C6128A1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4AA-3252-423E-BA5E-B7D1E7A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3582-EB7B-4442-AFFE-9C602982A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6121440" cy="45849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6913440" cy="51879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627280" y="1052640"/>
            <a:ext cx="3776760" cy="50432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6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258920" y="981000"/>
            <a:ext cx="6588000" cy="52088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7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476360" y="1341360"/>
            <a:ext cx="6121440" cy="45846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9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6986520" cy="5238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0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6121440" cy="45849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1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6948360" cy="5211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2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627280" y="1052640"/>
            <a:ext cx="3830760" cy="51130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3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4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700360" y="1125360"/>
            <a:ext cx="3722760" cy="49705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5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771640" y="1197000"/>
            <a:ext cx="3560760" cy="47545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6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6121440" cy="45849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8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116000" y="998640"/>
            <a:ext cx="6913440" cy="51861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00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121440" cy="45849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1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6121440" cy="45849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2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1116000" y="99864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3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6121440" cy="45849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Welcome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7" name=""/>
          <p:cNvGraphicFramePr/>
          <p:nvPr/>
        </p:nvGraphicFramePr>
        <p:xfrm>
          <a:off x="6227640" y="3141720"/>
          <a:ext cx="25383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3141720"/>
                    <a:ext cx="25383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5280" y="3141720"/>
          <a:ext cx="2417760" cy="25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141720"/>
                    <a:ext cx="24177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419640" y="1197000"/>
          <a:ext cx="2207880" cy="280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1197000"/>
                    <a:ext cx="22078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121440" cy="45849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7023240" cy="52675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1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56000" y="1052640"/>
            <a:ext cx="383040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a Competency and Cultural 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2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6913440" cy="51832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6-01-11T22:19:17Z</dcterms:modified>
  <cp:revision>346</cp:revision>
  <dc:subject/>
  <dc:title>Folie 1</dc:title>
</cp:coreProperties>
</file>