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189-9965-4D60-9A08-DE5ABF8E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C73-AF58-40E4-9D55-7502C131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150-D33B-4459-A6A2-8D7B71FB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71C-0241-4B5E-ADE9-1B0483B3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391-D3D9-4A0D-8176-68C06C0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851-8630-4527-9758-7ACFB5F4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607-07D5-4EE1-845B-FCD5EC4A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4B8-5A84-4CA3-8D13-5514CEE4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EBA-667B-488A-899C-CB332EA9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5B7-BB89-4D51-8C92-32E4EEF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B17-ACC5-4BCE-8197-E713BC5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168-B590-411E-91C0-0DF7286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580-335F-4358-A381-6693AF4E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8032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: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INI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RO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26880"/>
            <a:ext cx="77076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521320" cy="50338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44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26880"/>
            <a:ext cx="769788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794720" cy="50040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5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26880"/>
            <a:ext cx="769788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052640"/>
            <a:ext cx="84247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uggestions for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f possible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et introduced by a lo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Understand that the storyteller has an interior voice tha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mmunicates the individual vision of what he has lived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 ethics that guided him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 intentional choices that are the foundations of his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 woman interviewing seems to be easier to accept, because she is perceived as a social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2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t is indispensable to accept and understand the dialect in the lo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6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26880"/>
            <a:ext cx="76597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052640"/>
            <a:ext cx="84247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eparing a Journalistic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hat is the topic, and what will be the approach t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y is the topic of interest to you / to listen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anything unclear to you, do you need more background inf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e there any contradictions / conflicts latent to the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at aspect do you think most important / relevant to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v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ho will be your interview gu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o is competent on your topic? (you may have to research th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f the topic is controversial: which side does your guest repre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3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at makes your guest interesting for a radio inter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8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326880"/>
            <a:ext cx="77076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052640"/>
            <a:ext cx="8424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eparing a Journalistic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sing a mobile record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e you familiar with the unit and the microphone, do you know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o connect them and what buttons to pu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heck (out):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recording level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batteries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(also f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cro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empty cassette / MD (labe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earphones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terviews in the stud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range the setting so that your guest’s voice is picked up as well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ssible by the micro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t up headphones for yourself and your guest (with individual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ntrols, if possib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f you will be working ‘live’ or pre-producing in ‘real time’: agree with the guest (technician) on hand signals to be used during the interview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9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326880"/>
            <a:ext cx="76885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052640"/>
            <a:ext cx="842472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Interview Itsel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reate a productive conversational atmosphere. / Show your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ake on the responsibility of leading the conver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sk short, clear questions (exception: questions with built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ackground inf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sk only one question at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ddress your guest personally, and with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void global statements and suggestive questions, also question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e too ‘closed’ or to ‘open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Keep the microphone in your hand, never pass it on to any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 microphone symbolizes the fact that you are responsible fo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nver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0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326880"/>
            <a:ext cx="77076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1052640"/>
            <a:ext cx="842472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diting a pre-recorded interview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utline of the interview, with time details: where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ext that you will use to introduce and connect the chosen passages and for the end of the edited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unning order, complete with times, listing your text and the selected interview passages in the correc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cording of selected text- passages of text by using your runn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djustments on final production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e sheet: time of entire production, introduction by presenter, full name of the guest and the interviewer, first and last words (in cue and out cue) of th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1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26880"/>
            <a:ext cx="7678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052640"/>
            <a:ext cx="84247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hat makes an interview interesting?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Good questions will get you good answ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sk one question at a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sk open ques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void closed ques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oaded’ questions are not suitable for intervi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Wingdings 2"/>
                <a:ea typeface="Wingdings 2"/>
              </a:rPr>
              <a:t>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t’s a good idea to prepare an opening question and a final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2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26880"/>
            <a:ext cx="7678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052640"/>
            <a:ext cx="85694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Genres and Forms of Presentation Common in Radio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Factual Reports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se come in various sizes and shapes,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hort news items o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ws rep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ackgroun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100000"/>
              </a:lnSpc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erson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journalistic interview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rtraits and life stories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iscuss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vox-p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ackag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eatur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cripted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ive repor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6360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ditorial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quip (light edito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4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26880"/>
            <a:ext cx="7678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1052640"/>
            <a:ext cx="856944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Genres and Forms of Presentation Common in Radio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Fictional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radio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30240" indent="233640">
              <a:lnSpc>
                <a:spcPct val="10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30240" indent="233640">
              <a:lnSpc>
                <a:spcPct val="100000"/>
              </a:lnSpc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montage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30240" indent="23364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Other Free-Form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promo or trai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i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tabLst>
                <a:tab algn="l" pos="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  <a:tab algn="l" pos="6892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5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623"/>
              </a:gs>
              <a:gs pos="100000">
                <a:srgbClr val="2630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2320" y="46483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U-program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ocrates Grundt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91116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European projec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Competency &amp; Cultural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2852640"/>
            <a:ext cx="92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ordinated by the University of Education Frei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. Traudel Günn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7200" y="3733920"/>
            <a:ext cx="4032360" cy="53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51280" y="5229360"/>
            <a:ext cx="1368000" cy="864720"/>
            <a:chOff x="3851280" y="5229360"/>
            <a:chExt cx="1368000" cy="864720"/>
          </a:xfrm>
        </p:grpSpPr>
        <p:sp>
          <p:nvSpPr>
            <p:cNvPr id="54" name=""/>
            <p:cNvSpPr/>
            <p:nvPr/>
          </p:nvSpPr>
          <p:spPr>
            <a:xfrm>
              <a:off x="3851280" y="5229360"/>
              <a:ext cx="1368000" cy="86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930120" y="5313600"/>
              <a:ext cx="1216800" cy="69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326880"/>
            <a:ext cx="769788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1052640"/>
            <a:ext cx="842472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ue Sheet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TI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BJECT/REPORTER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ATE OF BROADCAST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ENRE: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(factual report, personal opinion/commentary, interview, sati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ODY OF 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deally about 4 short paragrap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agraph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: set up/hook (perhaps an association that leads to the t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2: detail/information/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3: more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4: introduce package and re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irst words heard on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OUT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Last words heard on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UR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otal duration (time) of the whole package in minutes (‘) and seconds (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ACK-ANNO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: Follow up comments from the programme pres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6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26880"/>
            <a:ext cx="769788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1052640"/>
            <a:ext cx="842472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 algn="ctr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2400" spc="-1" strike="noStrike">
                <a:solidFill>
                  <a:srgbClr val="000066"/>
                </a:solidFill>
                <a:latin typeface="Arial"/>
              </a:rPr>
              <a:t>Cue Shee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SOUND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SQUIDS IN/WENDY JONES</a:t>
            </a: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05/9/05</a:t>
            </a: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THE MORNING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GENRE: 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news feature (on local ope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5000"/>
              </a:lnSpc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Cue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: As the summer months draw to a close – perhaps its time to pack away the buckets and spades.  But not in Roker. It’s going to be summer all year round in Sunderland’s sunny suburb - all this winter it’ll be sand, sea and southern-fried squid for Roker’s lucky residents.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Is everyone going mad north of Wearmouth? Well, never one to resist sun, sand and squid, Wendy Jones went to find o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IN: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‘After a serious summer of sunba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OUT: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‘from 20,000 leagues under the sea (music[ends] 8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DUR: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3’ 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1" lang="en" sz="1800" spc="-1" strike="noStrike">
                <a:solidFill>
                  <a:srgbClr val="000066"/>
                </a:solidFill>
                <a:latin typeface="Arial"/>
              </a:rPr>
              <a:t>BACK ANNO: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And if you would like to experience the ‘Summer Squids I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</a:tabLst>
            </a:pPr>
            <a:r>
              <a:rPr b="0" lang="en" sz="1800" spc="-1" strike="noStrike">
                <a:solidFill>
                  <a:srgbClr val="000066"/>
                </a:solidFill>
                <a:latin typeface="Arial"/>
              </a:rPr>
              <a:t>attraction on Roker sea front - it opens to the public on September the 14th.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7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26880"/>
            <a:ext cx="7678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1125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Handy hints for writing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 script should be clear and easy to read, so make sur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ty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as double lin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es a clear font such as 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neither too big or too small, 12 point is usually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>
              <a:lnSpc>
                <a:spcPct val="100000"/>
              </a:lnSpc>
              <a:tabLst>
                <a:tab algn="l" pos="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 addi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n’t carry sentences over page br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umber all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buClr>
                <a:srgbClr val="000066"/>
              </a:buClr>
              <a:buFont typeface="Arial"/>
              <a:buChar char="-"/>
              <a:tabLst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use one side of the pap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289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26880"/>
            <a:ext cx="7678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1052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ossible production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fe stor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portage (“radio talk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port on current local theme or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mo aimed at particular target group to invol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ty media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0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326880"/>
            <a:ext cx="76885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052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vice - Exercises for Radio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Bre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Pausing and 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63760" indent="-1463760">
              <a:tabLst>
                <a:tab algn="l" pos="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  <a:tab algn="l" pos="5832360"/>
                <a:tab algn="l" pos="6097680"/>
                <a:tab algn="l" pos="6362640"/>
                <a:tab algn="l" pos="66279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Personality - Let it shine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13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326880"/>
            <a:ext cx="76946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1476360" y="1052640"/>
          <a:ext cx="6281640" cy="504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052640"/>
                    <a:ext cx="628164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26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4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2280" y="326880"/>
            <a:ext cx="76946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337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395280" y="1125360"/>
            <a:ext cx="83534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Arial"/>
              </a:rPr>
              <a:t>Communication and self-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develop and emphasize team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recognize complementary strengths with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produce and discuss different types of radio programs</a:t>
            </a: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 as a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able participants to move from passive to active role</a:t>
            </a:r>
            <a:r>
              <a:rPr b="0" lang="nl-NL" sz="2400" spc="-1" strike="noStrike">
                <a:solidFill>
                  <a:srgbClr val="000066"/>
                </a:solidFill>
                <a:latin typeface="Arial"/>
              </a:rPr>
              <a:t> in community radio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ise awareness of different forms / options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ying rules” on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189000"/>
            <a:ext cx="8569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679400"/>
            <a:ext cx="75596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unit was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sa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ree Radio Freudenstad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roline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atrice Barba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diapolis Europ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aly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" y="411120"/>
            <a:ext cx="89643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ject-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Education Freibur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Germany (coordinating instit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Orange Wi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A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io Robin Hood, Turku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ee Radio Freudenstad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ientific Advisory Institute of the Youth Aid Organisation of Freibur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ivil Radio, Budape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diapolis Ro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Lód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adboud University Nijmeg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iversity of Sunderla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0280"/>
            <a:ext cx="91440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304c"/>
              </a:gs>
              <a:gs pos="100000">
                <a:srgbClr val="111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240" y="411120"/>
            <a:ext cx="89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557360"/>
            <a:ext cx="856908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UNI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0840" y="326880"/>
            <a:ext cx="773424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84247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Ground Rules for Training in a Group</a:t>
            </a:r>
            <a:br>
              <a:rPr sz="2400"/>
            </a:br>
            <a:br>
              <a:rPr sz="12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is training course is designed for those who will be working with volunteer groups in community media projects. The participants are approached as a group in which: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7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755640" y="2560680"/>
            <a:ext cx="720108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ll individuals have equa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viduals are committed to the group’s tasks and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viduals complement one another’s skills and 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viduals have group-oriented and task-oriented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viduals have the ability to express their opinions and make decisions in mutual agre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ividuals share similar backgrounds and / or values which can emerge if all are willing to seek a common denominator within the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26880"/>
            <a:ext cx="76597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24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verview of course week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nday/Tuesda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dia communication and self-expres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ednesda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igital skills and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ursda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bout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Frida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(two parts)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1) societal and legal framework of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adio / developing an understanding of roles an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lf-organisation within media initiativ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276480">
              <a:tabLst>
                <a:tab algn="l" pos="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  <a:tab algn="l" pos="5567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2) importance of evaluation within training cour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92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26880"/>
            <a:ext cx="76597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71640" y="1125360"/>
            <a:ext cx="3621240" cy="49690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05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26880"/>
            <a:ext cx="765972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38880" cy="49687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18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335640"/>
            <a:ext cx="9144000" cy="53352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7bb4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609300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6880"/>
            <a:ext cx="773280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 1 - Communication Skills / Self Expression / Radio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240" y="25560"/>
            <a:ext cx="3276360" cy="398880"/>
          </a:xfrm>
          <a:prstGeom prst="rect">
            <a:avLst/>
          </a:prstGeom>
          <a:solidFill>
            <a:srgbClr val="667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3554"/>
                </a:solidFill>
                <a:latin typeface="Arial"/>
              </a:rPr>
              <a:t>META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305400"/>
            <a:ext cx="9144000" cy="3204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36640"/>
            <a:ext cx="9144000" cy="31680"/>
          </a:xfrm>
          <a:prstGeom prst="rect">
            <a:avLst/>
          </a:prstGeom>
          <a:gradFill rotWithShape="0">
            <a:gsLst>
              <a:gs pos="0">
                <a:srgbClr val="3a4a76"/>
              </a:gs>
              <a:gs pos="100000">
                <a:srgbClr val="2a35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200" y="6377040"/>
            <a:ext cx="360072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54320" y="981000"/>
            <a:ext cx="4338720" cy="52563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7864560" y="77760"/>
            <a:ext cx="1127160" cy="687240"/>
            <a:chOff x="7864560" y="77760"/>
            <a:chExt cx="1127160" cy="687240"/>
          </a:xfrm>
        </p:grpSpPr>
        <p:sp>
          <p:nvSpPr>
            <p:cNvPr id="131" name=""/>
            <p:cNvSpPr/>
            <p:nvPr/>
          </p:nvSpPr>
          <p:spPr>
            <a:xfrm>
              <a:off x="7864560" y="77760"/>
              <a:ext cx="1127160" cy="68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7929360" y="144720"/>
              <a:ext cx="1002240" cy="5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1:29:32Z</dcterms:created>
  <dc:creator>User</dc:creator>
  <dc:description/>
  <dc:language>en-US</dc:language>
  <cp:lastModifiedBy>User</cp:lastModifiedBy>
  <dcterms:modified xsi:type="dcterms:W3CDTF">2007-01-30T15:12:17Z</dcterms:modified>
  <cp:revision>328</cp:revision>
  <dc:subject/>
  <dc:title>Folie 1</dc:title>
</cp:coreProperties>
</file>