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F086-5A8A-4DA7-A31B-6AB8071C4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0B63-E6B7-42B1-A6E8-DC36C0332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5130-6D44-421C-9350-28F6A868A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2ECC-5A49-49DF-9AF2-F582EE78C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1514-D897-49B1-83FF-4E79DA6FB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E813-9CD6-444A-81FB-A26D93D85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6873-A245-4AE3-87AD-B3DED0245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C1E8-B653-431E-8104-77D2EEE3F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14C4-C5A9-4DB6-8719-ADD1905C9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ECFF-9AF5-42B0-9DC0-D6553CB87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B842-6312-43A5-BBFC-7086CEB77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0D9D-7A0A-4F7F-B773-B4F286FBE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97003-223D-4F29-98A3-63E6B866CD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60280"/>
            <a:ext cx="9144000" cy="478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6880320"/>
          </a:xfrm>
          <a:prstGeom prst="rect">
            <a:avLst/>
          </a:prstGeom>
          <a:gradFill rotWithShape="0">
            <a:gsLst>
              <a:gs pos="0">
                <a:srgbClr val="111623"/>
              </a:gs>
              <a:gs pos="100000">
                <a:srgbClr val="26304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ETA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UROPE: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E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RAINING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ROSS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52280" y="326880"/>
            <a:ext cx="792504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2 –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New Technologies and Community Ra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5240" y="25560"/>
            <a:ext cx="327636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a3554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5280" y="1066680"/>
            <a:ext cx="8424720" cy="50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Verdana"/>
              </a:rPr>
              <a:t>Pod casting and Strea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Verdana"/>
              <a:buChar char="•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GB" sz="3000" spc="-1" strike="noStrike">
                <a:solidFill>
                  <a:srgbClr val="000066"/>
                </a:solidFill>
                <a:latin typeface="Verdana"/>
              </a:rPr>
              <a:t>Value of live steaming to YOU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Verdana"/>
              <a:buChar char="•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GB" sz="3000" spc="-1" strike="noStrike">
                <a:solidFill>
                  <a:srgbClr val="000066"/>
                </a:solidFill>
                <a:latin typeface="Verdana"/>
              </a:rPr>
              <a:t>Pod cast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9280">
              <a:lnSpc>
                <a:spcPct val="100000"/>
              </a:lnSpc>
              <a:spcBef>
                <a:spcPts val="649"/>
              </a:spcBef>
              <a:buClr>
                <a:srgbClr val="000066"/>
              </a:buClr>
              <a:buFont typeface="Verdana"/>
              <a:buChar char="-"/>
              <a:tabLst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GB" sz="2600" spc="-1" strike="noStrike">
                <a:solidFill>
                  <a:srgbClr val="000066"/>
                </a:solidFill>
                <a:latin typeface="Verdana"/>
              </a:rPr>
              <a:t>Highlights / on-air featu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492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9280">
              <a:lnSpc>
                <a:spcPct val="100000"/>
              </a:lnSpc>
              <a:spcBef>
                <a:spcPts val="649"/>
              </a:spcBef>
              <a:buClr>
                <a:srgbClr val="000066"/>
              </a:buClr>
              <a:buFont typeface="Verdana"/>
              <a:buChar char="-"/>
              <a:tabLst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GB" sz="2600" spc="-1" strike="noStrike">
                <a:solidFill>
                  <a:srgbClr val="000066"/>
                </a:solidFill>
                <a:latin typeface="Verdana"/>
              </a:rPr>
              <a:t>Extended cont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492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9280">
              <a:lnSpc>
                <a:spcPct val="100000"/>
              </a:lnSpc>
              <a:spcBef>
                <a:spcPts val="649"/>
              </a:spcBef>
              <a:buClr>
                <a:srgbClr val="000066"/>
              </a:buClr>
              <a:buFont typeface="Verdana"/>
              <a:buChar char="-"/>
              <a:tabLst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GB" sz="2600" spc="-1" strike="noStrike">
                <a:solidFill>
                  <a:srgbClr val="000066"/>
                </a:solidFill>
                <a:latin typeface="Verdana"/>
              </a:rPr>
              <a:t>New, bonus or bespoke cont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492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9280">
              <a:lnSpc>
                <a:spcPct val="100000"/>
              </a:lnSpc>
              <a:spcBef>
                <a:spcPts val="649"/>
              </a:spcBef>
              <a:buClr>
                <a:srgbClr val="000066"/>
              </a:buClr>
              <a:buFont typeface="Verdana"/>
              <a:buChar char="-"/>
              <a:tabLst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GB" sz="2600" spc="-1" strike="noStrike">
                <a:solidFill>
                  <a:srgbClr val="000066"/>
                </a:solidFill>
                <a:latin typeface="Verdana"/>
              </a:rPr>
              <a:t>Potential as a Community Radio ser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492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92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Verdana"/>
              </a:rPr>
              <a:t>- Learning and support mater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144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145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6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52280" y="326880"/>
            <a:ext cx="792504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2 –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New Technologies and Community Ra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65240" y="25560"/>
            <a:ext cx="327636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a3554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5280" y="965160"/>
            <a:ext cx="842472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Verdana"/>
              </a:rPr>
              <a:t>Digital Issues:</a:t>
            </a:r>
            <a:r>
              <a:rPr b="1" lang="en-GB" sz="2400" spc="-1" strike="noStrike">
                <a:solidFill>
                  <a:srgbClr val="000066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62856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9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- To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9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- To your liste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928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2" marL="62856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9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- Radios are che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9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- iPods, PC’s and Broadband are 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928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2" marL="62856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…</a:t>
            </a: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9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- The world is going dig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9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- We can’ t be left beh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9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- You can do more (work more not hard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157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158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9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260280"/>
            <a:ext cx="9144000" cy="478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26304c"/>
              </a:gs>
              <a:gs pos="100000">
                <a:srgbClr val="11162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1240" y="411120"/>
            <a:ext cx="89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24000" y="189000"/>
            <a:ext cx="856908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META Eur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UNIT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New Technologies and Community Ra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4360" y="1679400"/>
            <a:ext cx="7559640" cy="31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a3554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is unit was created by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roline Mitche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University of Sunder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260280"/>
            <a:ext cx="9144000" cy="478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111623"/>
              </a:gs>
              <a:gs pos="100000">
                <a:srgbClr val="26304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22320" y="464832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upported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by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EU-programme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Socrates Grundtv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911160"/>
            <a:ext cx="741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 European project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Media Competency &amp; Cultural Empower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2852640"/>
            <a:ext cx="92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coordinated by the University of Education Freiburg,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Dr. Traudel Günnel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27200" y="3733920"/>
            <a:ext cx="4032360" cy="53964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3851280" y="5229360"/>
            <a:ext cx="1368000" cy="864720"/>
            <a:chOff x="3851280" y="5229360"/>
            <a:chExt cx="1368000" cy="864720"/>
          </a:xfrm>
        </p:grpSpPr>
        <p:sp>
          <p:nvSpPr>
            <p:cNvPr id="54" name=""/>
            <p:cNvSpPr/>
            <p:nvPr/>
          </p:nvSpPr>
          <p:spPr>
            <a:xfrm>
              <a:off x="3851280" y="5229360"/>
              <a:ext cx="1368000" cy="86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3930120" y="5313600"/>
              <a:ext cx="1216800" cy="699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60280"/>
            <a:ext cx="9144000" cy="478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26304c"/>
              </a:gs>
              <a:gs pos="100000">
                <a:srgbClr val="11162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1240" y="411120"/>
            <a:ext cx="8964360" cy="63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Project-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versity of Education Freiburg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Germany (coordinating instit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Radio Orange Wien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, Austr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Radio Robin Hood, Turku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Free Radio Freudenstadt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, Ger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Scientific Advisory Institute of the Youth Aid Organisation of Freiburg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, German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Civil Radio, Budapest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, Hung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Mediapolis Rom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, Ita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University of Lódz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, Po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Radboud University Nijmegen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Netherl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University of Sunderland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, 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260280"/>
            <a:ext cx="9144000" cy="478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26304c"/>
              </a:gs>
              <a:gs pos="100000">
                <a:srgbClr val="11162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1240" y="411120"/>
            <a:ext cx="89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1557360"/>
            <a:ext cx="8569080" cy="31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UNIT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New Technologies and Community Ra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326880"/>
            <a:ext cx="792504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2 –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New Technologies and Community Ra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5240" y="25560"/>
            <a:ext cx="327636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a3554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914400"/>
            <a:ext cx="8424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Verdana"/>
              </a:rPr>
              <a:t>Old vs. New:</a:t>
            </a: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77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78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" name=""/>
          <p:cNvSpPr/>
          <p:nvPr/>
        </p:nvSpPr>
        <p:spPr>
          <a:xfrm>
            <a:off x="56664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nalogue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heap, easy to main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Live or real time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Vulnerable to noise and inter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43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Digital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omplex and 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ime shifting and       voice tra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ore robust sig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Future proofed (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2280" y="326880"/>
            <a:ext cx="792504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2 –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New Technologies and Community Ra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5240" y="25560"/>
            <a:ext cx="327636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a3554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1066680"/>
            <a:ext cx="8424720" cy="50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Verdana"/>
              </a:rPr>
              <a:t>Digital Studio Technolog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000066"/>
                </a:solidFill>
                <a:latin typeface="Verdana"/>
              </a:rPr>
              <a:t>- Acquisi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3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000066"/>
                </a:solidFill>
                <a:latin typeface="Verdana"/>
              </a:rPr>
              <a:t>- Stor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3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000066"/>
                </a:solidFill>
                <a:latin typeface="Verdana"/>
              </a:rPr>
              <a:t>- Playou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3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000066"/>
                </a:solidFill>
                <a:latin typeface="Verdana"/>
              </a:rPr>
              <a:t>- Li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3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000066"/>
                </a:solidFill>
                <a:latin typeface="Verdana"/>
              </a:rPr>
              <a:t>- Transmi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92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93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326880"/>
            <a:ext cx="792504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2 –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New Technologies and Community Ra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5240" y="25560"/>
            <a:ext cx="327636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a3554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1066680"/>
            <a:ext cx="8424720" cy="48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Verdana"/>
              </a:rPr>
              <a:t>Digital Acqui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Verdana"/>
              <a:buChar char="-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3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GB" sz="3000" spc="-1" strike="noStrike">
                <a:solidFill>
                  <a:srgbClr val="000066"/>
                </a:solidFill>
                <a:latin typeface="Verdana"/>
              </a:rPr>
              <a:t>Mini Disc, Flash Card or Hard Dis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Verdana"/>
              <a:buChar char="-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3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GB" sz="3000" spc="-1" strike="noStrike">
                <a:solidFill>
                  <a:srgbClr val="000066"/>
                </a:solidFill>
                <a:latin typeface="Verdana"/>
              </a:rPr>
              <a:t>Can be edited in the fiel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Verdana"/>
              <a:buChar char="-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3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GB" sz="3000" spc="-1" strike="noStrike">
                <a:solidFill>
                  <a:srgbClr val="000066"/>
                </a:solidFill>
                <a:latin typeface="Verdana"/>
              </a:rPr>
              <a:t>Filed over email, file-transfer or mobile </a:t>
            </a:r>
            <a:r>
              <a:rPr b="0" lang="en-GB" sz="3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000066"/>
                </a:solidFill>
                <a:latin typeface="Verdana"/>
              </a:rPr>
              <a:t>pho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3000" spc="-1" strike="noStrike">
                <a:solidFill>
                  <a:srgbClr val="000066"/>
                </a:solidFill>
                <a:latin typeface="Verdana"/>
              </a:rPr>
              <a:t>- Increased quality and stor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105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106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7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2280" y="326880"/>
            <a:ext cx="792504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2 –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New Technologies and Community Ra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65240" y="25560"/>
            <a:ext cx="327636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a3554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1066680"/>
            <a:ext cx="8424720" cy="57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Verdana"/>
              </a:rPr>
              <a:t>Digital Storage and Play ou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4928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Verdana"/>
              <a:buChar char="-"/>
              <a:tabLst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3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GB" sz="3000" spc="-1" strike="noStrike">
                <a:solidFill>
                  <a:srgbClr val="000066"/>
                </a:solidFill>
                <a:latin typeface="Verdana"/>
              </a:rPr>
              <a:t>PC based syste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492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4928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Verdana"/>
              <a:buChar char="-"/>
              <a:tabLst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3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GB" sz="3000" spc="-1" strike="noStrike">
                <a:solidFill>
                  <a:srgbClr val="000066"/>
                </a:solidFill>
                <a:latin typeface="Verdana"/>
              </a:rPr>
              <a:t>Store, schedule and broadcast aud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492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4928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Verdana"/>
              <a:buChar char="-"/>
              <a:tabLst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3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GB" sz="3000" spc="-1" strike="noStrike">
                <a:solidFill>
                  <a:srgbClr val="000066"/>
                </a:solidFill>
                <a:latin typeface="Verdana"/>
              </a:rPr>
              <a:t>Inc commercials and PSA’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492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4928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Verdana"/>
              <a:buChar char="-"/>
              <a:tabLst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3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GB" sz="3000" spc="-1" strike="noStrike">
                <a:solidFill>
                  <a:srgbClr val="000066"/>
                </a:solidFill>
                <a:latin typeface="Verdana"/>
              </a:rPr>
              <a:t>Pre-record links and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492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4928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Verdana"/>
              <a:buChar char="-"/>
              <a:tabLst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3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GB" sz="3000" spc="-1" strike="noStrike">
                <a:solidFill>
                  <a:srgbClr val="000066"/>
                </a:solidFill>
                <a:latin typeface="Verdana"/>
              </a:rPr>
              <a:t>Use ‘generic’ links and bespoke </a:t>
            </a:r>
            <a:r>
              <a:rPr b="0" lang="en-GB" sz="3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GB" sz="3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000066"/>
                </a:solidFill>
                <a:latin typeface="Verdan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49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3000" spc="-1" strike="noStrike">
                <a:solidFill>
                  <a:srgbClr val="000066"/>
                </a:solidFill>
                <a:latin typeface="Verdana"/>
              </a:rPr>
              <a:t>  </a:t>
            </a:r>
            <a:r>
              <a:rPr b="0" lang="en-GB" sz="3000" spc="-1" strike="noStrike">
                <a:solidFill>
                  <a:srgbClr val="000066"/>
                </a:solidFill>
                <a:latin typeface="Verdana"/>
              </a:rPr>
              <a:t>overnight conte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492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49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3000" spc="-1" strike="noStrike">
                <a:solidFill>
                  <a:srgbClr val="000066"/>
                </a:solidFill>
                <a:latin typeface="Verdana"/>
              </a:rPr>
              <a:t>- Create musical ‘sound’ or ‘spine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119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0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26880"/>
            <a:ext cx="792504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2 –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New Technologies and Community Ra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65240" y="25560"/>
            <a:ext cx="327636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a3554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1066680"/>
            <a:ext cx="8424720" cy="52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Verdana"/>
              </a:rPr>
              <a:t>Digital Links &amp; Transmis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62856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Verdana"/>
              <a:buChar char="-"/>
              <a:tabLst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66"/>
                </a:solidFill>
                <a:latin typeface="Verdana"/>
              </a:rPr>
              <a:t>Remote studios, broadcasts or </a:t>
            </a:r>
            <a:r>
              <a:rPr b="0" lang="en-GB" sz="2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Verdana"/>
              </a:rPr>
              <a:t>transmitter li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62856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Verdana"/>
              <a:buChar char="-"/>
              <a:tabLst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66"/>
                </a:solidFill>
                <a:latin typeface="Verdan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62856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62856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Verdana"/>
              <a:buChar char="-"/>
              <a:tabLst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66"/>
                </a:solidFill>
                <a:latin typeface="Verdana"/>
              </a:rPr>
              <a:t>Internet (IP and Vo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62856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62856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Verdana"/>
              <a:buChar char="-"/>
              <a:tabLst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66"/>
                </a:solidFill>
                <a:latin typeface="Verdana"/>
              </a:rPr>
              <a:t>Broadcast or dome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628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Verdana"/>
              </a:rPr>
              <a:t>- </a:t>
            </a: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Delay or no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2856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62856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Verdana"/>
              <a:buChar char="-"/>
              <a:tabLst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66"/>
                </a:solidFill>
                <a:latin typeface="Verdana"/>
              </a:rPr>
              <a:t>DAB, DRM, DST (inc World space) and </a:t>
            </a:r>
            <a:r>
              <a:rPr b="0" lang="en-GB" sz="2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628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Verdana"/>
              </a:rPr>
              <a:t>  </a:t>
            </a:r>
            <a:r>
              <a:rPr b="0" lang="en-GB" sz="2800" spc="-1" strike="noStrike">
                <a:solidFill>
                  <a:srgbClr val="000066"/>
                </a:solidFill>
                <a:latin typeface="Verdana"/>
              </a:rPr>
              <a:t>on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131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132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3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2T11:29:32Z</dcterms:created>
  <dc:creator>User</dc:creator>
  <dc:description/>
  <dc:language>en-US</dc:language>
  <cp:lastModifiedBy>User</cp:lastModifiedBy>
  <dcterms:modified xsi:type="dcterms:W3CDTF">2007-01-30T12:45:27Z</dcterms:modified>
  <cp:revision>312</cp:revision>
  <dc:subject/>
  <dc:title>Folie 1</dc:title>
</cp:coreProperties>
</file>