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8DA-5CD9-4E26-8DA4-AFF74894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47B-CC32-45FC-9E82-F2C5FCF6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0DC-03BC-43FE-AD16-336AB1FF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C67-3BE0-4377-AD1C-08D7CB0D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D1E-414D-4C8F-AAD1-5AEE5D3F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1CB-30CC-4830-965A-8C26821B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48D-8A76-49E1-9CB6-A740246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A90-AB69-469A-A036-21DCCDA4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681-3ACF-47AB-B676-88D2A603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F9B-9527-433F-BA52-FB99341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862-529D-4E6E-B50F-3486391F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CD0-E34F-4D6F-84F3-DF89CE9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AAA-4833-4478-99A4-4366D9302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nemarafm.com/" TargetMode="External"/><Relationship Id="rId2" Type="http://schemas.openxmlformats.org/officeDocument/2006/relationships/hyperlink" Target="http://www.connemarafm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1052640"/>
            <a:ext cx="748980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acets of internet use in community media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radio stations use the web 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ttract new audiences with similar interests i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fferent parts of 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.g. Resonance FM has live stream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oadcasts in London but picks up liste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ested in experimental radio all over Brita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http://www.resonancefm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981000"/>
            <a:ext cx="84247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nemara Community Ra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sts several programmes , including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ws, each week on its web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 Audio forma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cked up in many different pla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nemaran and Irish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iaspor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ll over t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ld (particularly in the US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onnemaraf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112536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en again’ to archived programs allows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‘time shift’. Listening on demand ‘transfers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rol to the listener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only stations-allow people to circumv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censing reg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ample: ‘Street Radio’ in Sydney enables yo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meless people to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981000"/>
            <a:ext cx="828036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adio Kothmale, Sri Lank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ventional radio station helps bring we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urces to wider comm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oadcasts a daily ‘Radio Browsing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’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steners who don’t have internet access requ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oadcasters and their assistants browse the we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broadcast the resul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1125360"/>
            <a:ext cx="78487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dvantages of web sites for community s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rchives, discussion forums, statio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gramme web pages  on line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blicizes and provides information ab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ion meetings and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9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125360"/>
            <a:ext cx="85676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Practical issues for exchanging program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portance of labeling, tagging and key word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sier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eed to teach  station volunteers how t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p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0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125360"/>
            <a:ext cx="842472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radio is a tool for those who, under oth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ircumstances, might never have assumed 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tive role withi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tivation has to be kindled; it’s not necessarily 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 with any fascination with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2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89000"/>
            <a:ext cx="856908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tworking Communit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Uses of web radio for grassroots communication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679400"/>
            <a:ext cx="755964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ichard Berry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ing community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Uses of web radio for grassroots communications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125360"/>
            <a:ext cx="73436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do particular groups relate to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chnologies, radio and th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kind of training in this area is needed?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1125360"/>
            <a:ext cx="69850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at is Community Rad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mall scale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ually aimed at small neighbourhood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ty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n- profit distrib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ly operated b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125360"/>
            <a:ext cx="784872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mocratically structured and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eners participate in programm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ations provide acces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ists worldwide 100+ stations licensed in 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nc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1125360"/>
            <a:ext cx="777708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sues for community radi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ew technology … not only present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ssibilities: it also creates new processes of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lusion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907920"/>
            <a:ext cx="76327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udio on the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ultaneous recep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-broadcasting or ‘listening on demand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novative tool for linking different parts of t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ty radio m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otential to connect people, issue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uses locally and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le in helping dispersed communitie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3:18:02Z</dcterms:modified>
  <cp:revision>309</cp:revision>
  <dc:subject/>
  <dc:title>Folie 1</dc:title>
</cp:coreProperties>
</file>