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EA8-7632-4898-9D6B-46DF744B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E5B-C355-4B68-A0E2-B663440C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F47-976A-4A23-A5E2-87A55BC6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35B-5DBD-452C-866D-DFB5640C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F57-0769-48F3-82AB-B13CF583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3CF-4F24-45EA-A4E2-19159633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080-E8CF-4A57-B046-2B3475D6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853-D2C3-4D6E-B7F7-16AEC36F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5E0-3CC5-48BA-A187-BEE9DA04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E6E-394E-446B-A426-9D2AACC1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0F5-AC00-487F-8B5E-A1827DA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776-8131-4DBF-9E90-8D187C6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0C4F-35B1-4D77-AE9E-855FFC22F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125360"/>
            <a:ext cx="842472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ignificance of web radio for displaced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‘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orld wide’ nature of web radio has a particular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gnificance and resonance for groups of peopl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-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ve been displaced from their country of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-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ve crossed geographical borders and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cial, cultural and religious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4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125360"/>
            <a:ext cx="8424720" cy="49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thnic community media a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creasingly expanding their communication activities to a trans-national scale, altering in the process the experiential horizon of the ethnic communities they serve’.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Tsagarousianou, 2002: 2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5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125360"/>
            <a:ext cx="8424720" cy="58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udio on the intern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b radio applications as a communicativ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ol in grassroots commun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multaneous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layed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- broadcasting or ‘listening on demand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6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125360"/>
            <a:ext cx="84247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udio on the intern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novative tool for linking different parts of th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unity radio m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otential to connect people, issues, and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uses locally and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ole in helping dispersed communities to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8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125360"/>
            <a:ext cx="842472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ommunity web rad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steners can become increasingly mor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volved as contributors or makers of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grammes if a web station creates that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pportunit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Priestman, 2002: 2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9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125360"/>
            <a:ext cx="842472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acets of Internet Use in Community Media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Community radio stations use the web  to attract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new audiences with similar interests in different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parts of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E.g. Resonance FM has live streams and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Broadcasts in London but picks up listener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interested in experimental radio all over Britain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nd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ttp://www.resonancefm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0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125360"/>
            <a:ext cx="842472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nemara Community Radio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posts several programs , including local news,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each week on its web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Real Audio forma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picked up in many different pla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Connemaran and Irish diaspora all over the world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(particularly in the US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connemaraf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2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295280"/>
            <a:ext cx="84250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‘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Listen again’ to archived programs allows peopl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to ‘time shift’. Listening on demand ‘transfer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control to the listener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Web only stations-allow people to circumvent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licensing reg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Example: ‘Street Radio’ in Sydney enables young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homeless people to have a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Remote control of night programming via internet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llows volunteers to work from home-eg ‘Radio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Robin Hood’ in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3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125360"/>
            <a:ext cx="842508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Radio Kothmale, Sri Lan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Conventional radio station helps bring web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resources t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wider commun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Broadcasts a daily ‘Radio Browsing on th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Internet’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Listeners who don’t have internet access request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Broadcasters and their assistants browse the web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nd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broadcast the resu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4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125360"/>
            <a:ext cx="876312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dvantages of web sites for community s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rchives, discussion forums, station and programm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web pages o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Listeners and station volunteers have a high speed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link to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ids  active volunteers to participate democratically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in the station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Publicizes and provides contextual information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bout  station meetings and ele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6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295280"/>
            <a:ext cx="876312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etworking 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Networking amongst community programm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Programme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Setting up web radio events linking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broadcaster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from around the worl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– Voice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ithout Frontier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ject (AMA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7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143000"/>
            <a:ext cx="87631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Radio Orange in Vien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webcasting is part of grassroots media activism on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the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e.g. bringing together feminist groups around 8</a:t>
            </a:r>
            <a:r>
              <a:rPr b="0" lang="en-GB" sz="2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th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March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(International Woman’s 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grams uploaded onto server by one station then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wn loaded and re broadcast by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ttp://www.orange.or.a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8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990720"/>
            <a:ext cx="876312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nternet radio station: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eminist International Radio Endeav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t 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arted as community station broadcasting around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national event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ains women where ever they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 going web/audio presence promoting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national feminism and women’s human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ttp://www.fire.or.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9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990720"/>
            <a:ext cx="8763120" cy="55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ract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The mathematics and logistics of program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Importance of labeling and key words for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easier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Interviewee/program content ‘tagged’ for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easier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ccess of programs withi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The need to teach  station volunteers how t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up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1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990720"/>
            <a:ext cx="876312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b radio is a tool for those who, under other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ircumstances, might never have assumed an activ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ole withi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tivation has to be kindled, is not necessarily to do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ith any fascination with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ainers need to look at motivation as being fed by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uman and social sources, life experience and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unicative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2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189000"/>
            <a:ext cx="856908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tworking Community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Uses of web radio for grassroots communication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1679400"/>
            <a:ext cx="755964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unit was 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ichard Berry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ing Community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Uses of web radio for grassroots communications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125360"/>
            <a:ext cx="8424720" cy="49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`Radio could be a… wonderful public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unication system…capable not only of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ansmitting but of receiving, of making listener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ear but also speak, not of isolating them but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necting them`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Brecht cited by Lewis and Booth, 1989: 186)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125360"/>
            <a:ext cx="8424720" cy="50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n 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ing a case study approach to look at different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ys that web radio has been used to enabl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rass roots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ok at the role that community radio stations can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y in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veloping web radio-and some good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deas for involving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web in programm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stribution and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9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125360"/>
            <a:ext cx="842472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do particular groups relate to computer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chnologies, radio and the web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n community web radio help to break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wn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ierarchies of media use for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dividuals and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pecialist interest group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kind of training in this area is needed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125360"/>
            <a:ext cx="8424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ssues for community radi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ew technology … not only present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ssibilities: it also creates a new process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clu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me radio makers might be internet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freaks”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use all the facilities the radio station has t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ffer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…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thers need training in order to tak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vant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f these facilities at all…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Kemptner, 2003: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1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Networking Commun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484280"/>
            <a:ext cx="842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w media… ‘allow people the freedom to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re-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efine and construct themselve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round th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ind of alternative cultural forms, experiences, and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actices which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radical deployments of th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ernet afford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‘vital new space of politics and cultur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Kahn and Kellner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7-01-30T13:16:22Z</dcterms:modified>
  <cp:revision>324</cp:revision>
  <dc:subject/>
  <dc:title>Folie 1</dc:title>
</cp:coreProperties>
</file>