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6AC-50F6-47DD-A9C4-67A754EF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204-7279-483B-B22D-AE835234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B57-91A3-4D66-BDC8-DB382385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B8E-A4AF-4F3C-AE93-BFCBF4C2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D75-067D-4BE5-90DA-B6E5CCF6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EA2-8FE2-47A4-B270-DC999E55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CC1-B398-477E-BECA-794B4EEA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818-5C91-4810-BD11-69F0AF1E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82B-D625-464F-8167-9871FE3A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850-ABB9-4308-B36F-DC046340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3FE-0037-4E88-8521-286B4DA5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E2A-94B4-439F-902D-16A58528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0515-BC89-416C-9EB1-18DA3BE27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8032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T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: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INING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ROS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Digit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052640"/>
            <a:ext cx="842472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Reco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Audacity can record live audio through a microphone or mixer, or digitize recordings from cassette tapes, vinyl records, or minidiscs. With some sound cards, it can also capture streaming au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Record from microphone, line input, or other 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ub over existing tracks to create multi-track record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Record up to 16 channels at once (requires multi-channel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hardwa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Level meters monitor volume levels before, during, and after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recor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46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Digit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052640"/>
            <a:ext cx="84247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Import and 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Import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sound files, edit them, and combine them with other files or new record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br>
              <a:rPr sz="2000"/>
            </a:b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Export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your recordings in several common file forma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Import and export WAV, AIFF, AU, and Ogg Vorbis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Import MPEG audio (including MP2 and MP3 fi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Export MP3s with the optional LAME encoder lib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Create WAV or AIFF files suitable for burning to C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Note: Audacity does not currently support WMA, AAC, or most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other proprietary fi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59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Digit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05264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Ed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Easy editing with Cut, Copy, Paste, and De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Use unlimited Undo (and Redo) to go back any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number of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Edit and mix an unlimited number of tr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Fade the volume up or down smoothly with the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envelope t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72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Digit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105264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Change the pitch without altering the tempo, or vice-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Remove static, hiss, hum, or other constant background noi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Alter frequencies with Equalization, FFT Filter, and Bass Boost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eff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Adjust volumes with Compressor, Amplify, and Normalize eff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85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Digit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1052640"/>
            <a:ext cx="8424720" cy="46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oun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Record and edit 16-bit, 24-bit, and 32-bit (floating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point) s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Record at up to 96 KH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Mix tracks with different sample rates or formats, and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convert them automatically in real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9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Digit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979640" y="981000"/>
            <a:ext cx="5184720" cy="45864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88800" y="56116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ongoing development: the release of Audacity 1.2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is being announced for autumn 2005 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(Audacity 1.2.2. – the selection to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12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3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189000"/>
            <a:ext cx="8569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UNI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gital Editing with Aud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360" y="1679400"/>
            <a:ext cx="7559640" cy="43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is unit was creat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Karin Eble, Irene Schum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cientific Advisory Institute of the Youth Aid Organisation of Freiburg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ank H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adio Orange Wien, A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iitta Haapako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adio Robin Hood, Turku, 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eslaw Olek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iversity of Lódz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22320" y="46483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porte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EU-programm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Socrates Grundtv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91116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European projec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dia Competency &amp; Cultural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2852640"/>
            <a:ext cx="92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ordinated by the University of Education Freiburg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. Traudel Günn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27200" y="3733920"/>
            <a:ext cx="4032360" cy="5396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851280" y="5229360"/>
            <a:ext cx="1368000" cy="864720"/>
            <a:chOff x="3851280" y="5229360"/>
            <a:chExt cx="1368000" cy="864720"/>
          </a:xfrm>
        </p:grpSpPr>
        <p:sp>
          <p:nvSpPr>
            <p:cNvPr id="54" name=""/>
            <p:cNvSpPr/>
            <p:nvPr/>
          </p:nvSpPr>
          <p:spPr>
            <a:xfrm>
              <a:off x="3851280" y="5229360"/>
              <a:ext cx="1368000" cy="86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930120" y="5313600"/>
              <a:ext cx="1216800" cy="69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240" y="411120"/>
            <a:ext cx="8964360" cy="63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ject-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versity of Education Freibur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Germany (coordinating instit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Orange Wi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Aust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Robin Hood, Turku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ee Radio Freudenstad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cientific Advisory Institute of the Youth Aid Organisation of Freibur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ivil Radio, Budapes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Hun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diapolis Rom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Lódz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boud University Nijmeg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Sunderlan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557360"/>
            <a:ext cx="8569080" cy="25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UNI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git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Digit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125360"/>
            <a:ext cx="842472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hy do I need digital skills for radio produ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cause of new technologies in the field of radio reporting and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road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With knowledge on digital processing of radio materials you can use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hose 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 3" charset="2"/>
              <a:buChar char="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hat digital skills will I learn in this modu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vailability and use of digital recording equipmen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editing, publishing and broad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toring and dissemination of digitally produced radio mate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7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7989840" y="692280"/>
            <a:ext cx="1154160" cy="223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1052640"/>
            <a:ext cx="8424720" cy="63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4200" indent="-3994200">
              <a:tabLst>
                <a:tab algn="l" pos="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Dissemination options of a digital audio product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4200" indent="-3994200">
              <a:tabLst>
                <a:tab algn="l" pos="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4200" indent="-3994200">
              <a:tabLst>
                <a:tab algn="l" pos="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Broad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4200" indent="-3994200">
              <a:lnSpc>
                <a:spcPct val="100000"/>
              </a:lnSpc>
              <a:tabLst>
                <a:tab algn="l" pos="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Product is available to local listener within the broadcasting r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4200" indent="-3994200">
              <a:tabLst>
                <a:tab algn="l" pos="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4200" indent="-3994200">
              <a:tabLst>
                <a:tab algn="l" pos="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4200" indent="-3994200">
              <a:tabLst>
                <a:tab algn="l" pos="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Play directly from computer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Use an audio player software like WinAmp, RealAudio, XMM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4200" indent="-3994200">
              <a:tabLst>
                <a:tab algn="l" pos="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4200" indent="-3994200">
              <a:tabLst>
                <a:tab algn="l" pos="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4200" indent="-3994200">
              <a:tabLst>
                <a:tab algn="l" pos="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Create CD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Play it from a CD-player in 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4200" indent="-3994200">
              <a:tabLst>
                <a:tab algn="l" pos="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4200" indent="-3994200">
              <a:tabLst>
                <a:tab algn="l" pos="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4200" indent="-3994200">
              <a:tabLst>
                <a:tab algn="l" pos="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Install it into radio automation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Automation software plays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4200" indent="-3994200">
              <a:tabLst>
                <a:tab algn="l" pos="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software’s Database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product at its designated time-s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4200" indent="-3994200">
              <a:tabLst>
                <a:tab algn="l" pos="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Digit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92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308720" y="1268280"/>
            <a:ext cx="1638360" cy="1676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Digit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052640"/>
            <a:ext cx="842472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55720" indent="-2655720">
              <a:tabLst>
                <a:tab algn="l" pos="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Dissemination options of a digital audio product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5720" indent="-2655720">
              <a:tabLst>
                <a:tab algn="l" pos="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5720" indent="-2655720">
              <a:tabLst>
                <a:tab algn="l" pos="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Web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5720" indent="-2655720">
              <a:lnSpc>
                <a:spcPct val="100000"/>
              </a:lnSpc>
              <a:tabLst>
                <a:tab algn="l" pos="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Product is globally available to everyone with a compu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5720" indent="-2655720">
              <a:tabLst>
                <a:tab algn="l" pos="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and an Internet 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5720" indent="-2655720">
              <a:tabLst>
                <a:tab algn="l" pos="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5720" indent="-2655720">
              <a:tabLst>
                <a:tab algn="l" pos="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5720" indent="-2655720">
              <a:tabLst>
                <a:tab algn="l" pos="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Live stream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Product can be listened simultaneously on radio and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5720" indent="-2655720">
              <a:tabLst>
                <a:tab algn="l" pos="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5720" indent="-2655720">
              <a:tabLst>
                <a:tab algn="l" pos="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5720" indent="-2655720">
              <a:tabLst>
                <a:tab algn="l" pos="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5720" indent="-2655720">
              <a:tabLst>
                <a:tab algn="l" pos="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Audio-on-demand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Product is stored on web-server and is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5720" indent="-2655720">
              <a:tabLst>
                <a:tab algn="l" pos="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available to listener at any ti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06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Digit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197000"/>
            <a:ext cx="8424720" cy="50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ud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As a freeware editing programme Audacity can be downloaded by everybody in various languages from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http://audacity.sourceforge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Free and Cross-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buClr>
                <a:srgbClr val="000066"/>
              </a:buClr>
              <a:buFont typeface="Wingdings 3" charset="2"/>
              <a:buChar char="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developed as a freeware product under GNU/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buClr>
                <a:srgbClr val="000066"/>
              </a:buClr>
              <a:buFont typeface="Wingdings 3" charset="2"/>
              <a:buChar char="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uns on Mac OS X, Windows, and GNU/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This is an overview of the most useful features in Audacity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19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2 – Digit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93880" y="981000"/>
            <a:ext cx="7404120" cy="4861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704320" y="5876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(Audacity 1.2.3 - the envelope to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3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1:29:32Z</dcterms:created>
  <dc:creator>User</dc:creator>
  <dc:description/>
  <dc:language>en-US</dc:language>
  <cp:lastModifiedBy>User</cp:lastModifiedBy>
  <dcterms:modified xsi:type="dcterms:W3CDTF">2006-01-11T22:23:27Z</dcterms:modified>
  <cp:revision>261</cp:revision>
  <dc:subject/>
  <dc:title>Folie 1</dc:title>
</cp:coreProperties>
</file>