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385-DDBC-4378-BA69-79C47DA6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886-5C2D-4C53-918C-F387F4F8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4CC-C197-42E0-8582-502E25B7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B45-4467-4A4E-B578-45DFABAE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F4D-4F1F-47E2-8E5D-C6ABFFDE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C7E-6CF3-463E-B3CB-149D65B7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111-0C0C-405B-ACC1-DCE9CD6F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056-988F-4CB8-80ED-3ED129AA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470-2B32-419F-B08B-AB931D49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98C-AA58-40FF-8A76-896EBC41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FF2-953F-4C0F-BF83-7E15B098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87E-026C-4E4D-979F-65798E5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49ED-DE88-48A5-A8BD-AF2582214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8032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: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INI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RO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9280" y="907920"/>
            <a:ext cx="878544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18756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xamples of different training sit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spcBef>
                <a:spcPts val="312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e to one: one person observing another: “sitting with Nell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e to one: demonst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mall group work-inform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orkshop: one off session about specific topic, practically 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hort course: One day course, series of evening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ty development: training taking place very informally over an open - ended period of time, within a community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mal course-accredited by school, college, university or vocational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6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052640"/>
            <a:ext cx="85694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Holistic model of community media training comb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ree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624"/>
              </a:spcBef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2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edia Awarenes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.g. knowledge of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2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nres, the role of community radio i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2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2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edia Skill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reative, production, journalis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2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echnical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2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2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edia Identity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sing consciousness i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2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nderstanding relationship between ident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2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dia and confidence to play a part in repres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2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at identity through community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7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080" y="1052640"/>
            <a:ext cx="874872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343080">
              <a:lnSpc>
                <a:spcPct val="130000"/>
              </a:lnSpc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ction-oriented’ media teaching and learning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spcBef>
                <a:spcPts val="1125"/>
              </a:spcBef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based upon and refers to the learners' life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n be structured so as to enthuse the particip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akes a learner-centred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upports learning through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product-oriented – e.g. making a radi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8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052640"/>
            <a:ext cx="8424720" cy="47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18756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aches to teaching and learning develop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A Europ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andem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Use of ‘Community Tuto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pproaches to working with specialist interest group (e.g .women) in community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00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052640"/>
            <a:ext cx="864216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ande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624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efinition: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in a tand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aining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760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ande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wo indispensable parts of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wh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ooperation between inter- professional te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adio trainers and target group trainers to pla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lement training projects for a target group on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qual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1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1052640"/>
            <a:ext cx="8424720" cy="41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spcBef>
                <a:spcPts val="1500"/>
              </a:spcBef>
              <a:tabLst>
                <a:tab algn="l" pos="0"/>
                <a:tab algn="l" pos="17604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orking in a tandem implies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1125"/>
              </a:spcBef>
              <a:tabLst>
                <a:tab algn="l" pos="0"/>
                <a:tab algn="l" pos="17604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762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utual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7604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762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utu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7604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762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dynamic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4381560" y="2378160"/>
            <a:ext cx="4367160" cy="2945160"/>
            <a:chOff x="4381560" y="2378160"/>
            <a:chExt cx="4367160" cy="2945160"/>
          </a:xfrm>
        </p:grpSpPr>
        <p:sp>
          <p:nvSpPr>
            <p:cNvPr id="226" name=""/>
            <p:cNvSpPr/>
            <p:nvPr/>
          </p:nvSpPr>
          <p:spPr>
            <a:xfrm>
              <a:off x="6421320" y="2378160"/>
              <a:ext cx="504360" cy="502920"/>
            </a:xfrm>
            <a:prstGeom prst="ellipse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960000">
              <a:off x="6421320" y="2810880"/>
              <a:ext cx="72720" cy="108072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0700000">
              <a:off x="6405120" y="3819240"/>
              <a:ext cx="72720" cy="89964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9680000">
              <a:off x="6717960" y="4638240"/>
              <a:ext cx="72360" cy="72036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340000">
              <a:off x="5973480" y="3757320"/>
              <a:ext cx="72720" cy="89964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660000">
              <a:off x="5614920" y="4538160"/>
              <a:ext cx="72720" cy="72036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0400000">
              <a:off x="5325840" y="3209400"/>
              <a:ext cx="1282320" cy="7092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340000">
              <a:off x="6492240" y="3207960"/>
              <a:ext cx="720360" cy="7272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58000" y="2378160"/>
              <a:ext cx="504360" cy="502920"/>
            </a:xfrm>
            <a:prstGeom prst="ellipse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960000">
              <a:off x="7758000" y="2810880"/>
              <a:ext cx="72720" cy="108072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700000">
              <a:off x="7741800" y="3819240"/>
              <a:ext cx="72720" cy="89964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9680000">
              <a:off x="8035560" y="4628520"/>
              <a:ext cx="72360" cy="72036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340000">
              <a:off x="7311960" y="3759120"/>
              <a:ext cx="72720" cy="89964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660000">
              <a:off x="6957720" y="4533480"/>
              <a:ext cx="72720" cy="72036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400000">
              <a:off x="6638400" y="3215520"/>
              <a:ext cx="1261800" cy="7272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340000">
              <a:off x="7828920" y="3207960"/>
              <a:ext cx="720360" cy="7272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81560" y="3466800"/>
              <a:ext cx="4367160" cy="36360"/>
            </a:xfrm>
            <a:prstGeom prst="rect">
              <a:avLst/>
            </a:pr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4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1052640"/>
            <a:ext cx="842472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71800">
              <a:spcBef>
                <a:spcPts val="1500"/>
              </a:spcBef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Training in a Tandem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: Prerequ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spcBef>
                <a:spcPts val="876"/>
              </a:spcBef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adio trainer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buClr>
                <a:srgbClr val="000066"/>
              </a:buClr>
              <a:buFont typeface="Wingdings" charset="2"/>
              <a:buChar char=""/>
              <a:tabLst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erienced in teaching radio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buClr>
                <a:srgbClr val="000066"/>
              </a:buClr>
              <a:buFont typeface="Wingdings" charset="2"/>
              <a:buChar char=""/>
              <a:tabLst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reative and technical elements of radio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buClr>
                <a:srgbClr val="000066"/>
              </a:buClr>
              <a:buFont typeface="Wingdings" charset="2"/>
              <a:buChar char=""/>
              <a:tabLst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ariety of methods for teac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arget group trainer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lnSpc>
                <a:spcPct val="13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erienced in developing training programmes, recreational or creative activities for the respective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buClr>
                <a:srgbClr val="000066"/>
              </a:buClr>
              <a:buFont typeface="Wingdings" charset="2"/>
              <a:buChar char=""/>
              <a:tabLst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amiliar with the interests, needs and living circumstances of the targe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5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1052640"/>
            <a:ext cx="842472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Training in a Tandem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: Prerequ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499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624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an function well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17604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oth partners are fully involved in the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17604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roject is regarded as a mutual endeav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17604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is clear who is competent and responsible for wha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3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17604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re is background information for both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,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group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thods and aims of radio produc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70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1052640"/>
            <a:ext cx="856944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343080">
              <a:spcBef>
                <a:spcPts val="1125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raining in a Tandem: examples of methods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spcBef>
                <a:spcPts val="624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lnSpc>
                <a:spcPct val="130000"/>
              </a:lnSpc>
              <a:buClr>
                <a:srgbClr val="000066"/>
              </a:buClr>
              <a:buFont typeface="Arial"/>
              <a:buAutoNum type="arabicPeriod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reparatory workshop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- for radio and target group trainers and other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volved in target group (most prepa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oaching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lanning where target group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orks with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erienced radio trainer to plan training (medium level of prepa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hecklist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trainers forming a tandem use the method as a checklist for their planning (least preparation- recommended for experienced train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8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1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052640"/>
            <a:ext cx="842472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34308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xamples of training in tand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spcBef>
                <a:spcPts val="499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lnSpc>
                <a:spcPct val="110000"/>
              </a:lnSpc>
              <a:buClr>
                <a:srgbClr val="000066"/>
              </a:buClr>
              <a:buFont typeface="Arial"/>
              <a:buAutoNum type="arabicPeriod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emale radio station worker in tandem with women’s education worker trainer based in women’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lnSpc>
                <a:spcPct val="11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lnSpc>
                <a:spcPct val="11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dio trainer working with social worker in old people’s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lnSpc>
                <a:spcPct val="11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lnSpc>
                <a:spcPct val="11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dio producer working with youth worker in youth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lnSpc>
                <a:spcPct val="11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lnSpc>
                <a:spcPct val="11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4.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dio producer working with social worker and refugee representative in a refugee and asylum seeker drop- i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 algn="ctr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ee handbook for furthe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 algn="ctr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 algn="ctr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handbook: “Training in a Tandem – A Planning Guide for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 algn="ctr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workshops with Special Target Groups” / Mag Anu Pöyskö, Frank Hagen)</a:t>
            </a:r>
            <a:r>
              <a:rPr b="1" lang="en-GB" sz="1800" spc="-1" strike="noStrike">
                <a:solidFill>
                  <a:srgbClr val="3948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9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10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2320" y="4648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U-progra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ocrates Grundt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111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European projec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Competency &amp; Cultural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2852640"/>
            <a:ext cx="92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ordinated by the University of Education Frei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. Traudel Günn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7200" y="3733920"/>
            <a:ext cx="4032360" cy="53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51280" y="5229360"/>
            <a:ext cx="1368000" cy="864720"/>
            <a:chOff x="3851280" y="5229360"/>
            <a:chExt cx="1368000" cy="864720"/>
          </a:xfrm>
        </p:grpSpPr>
        <p:sp>
          <p:nvSpPr>
            <p:cNvPr id="54" name=""/>
            <p:cNvSpPr/>
            <p:nvPr/>
          </p:nvSpPr>
          <p:spPr>
            <a:xfrm>
              <a:off x="3851280" y="5229360"/>
              <a:ext cx="1368000" cy="86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930120" y="5313600"/>
              <a:ext cx="121680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173160" y="1557360"/>
            <a:ext cx="3936960" cy="4554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9280" y="1052640"/>
            <a:ext cx="8964720" cy="55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ommunity tu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1125"/>
              </a:spcBef>
              <a:buClr>
                <a:srgbClr val="000066"/>
              </a:buClr>
              <a:buFont typeface="Wingdings 3" charset="2"/>
              <a:buChar char="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1125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ing recent trainees as rol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"If we can do this - then so can you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xampl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eople who had taken part in a year long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ty radio course became tutors for some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f the following year’s introductory course s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10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836640"/>
            <a:ext cx="885672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ome advantages of training with community tu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374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cessibility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being taught by people they knew and felt comfortabl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thusias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- The involvement and personal stories around how and why community tutors became involved in radio was a powerful way of encouraging 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path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- Until a short time ago they had been complete novices themselves-  they were ideally placed to remember the hopes and fears they had themselves when first starting their own radio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ilding on existing skill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- The process of designing the training day was a useful way for the community tutors to reflect on their own learning and build new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6377040"/>
            <a:ext cx="3600360" cy="48096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2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907920"/>
            <a:ext cx="842472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lnSpc>
                <a:spcPct val="130000"/>
              </a:lnSpc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aches to work with special interest groups 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lnSpc>
                <a:spcPct val="130000"/>
              </a:lnSpc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munity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624"/>
              </a:spcBef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buClr>
                <a:srgbClr val="000066"/>
              </a:buClr>
              <a:buFont typeface="Arial"/>
              <a:buChar char="•"/>
              <a:tabLst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sider the barriers to training for that particular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buClr>
                <a:srgbClr val="000066"/>
              </a:buClr>
              <a:buFont typeface="Arial"/>
              <a:buChar char="•"/>
              <a:tabLst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specific strategies to involve a specific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arge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buClr>
                <a:srgbClr val="000066"/>
              </a:buClr>
              <a:buFont typeface="Arial"/>
              <a:buChar char="•"/>
              <a:tabLst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deas for course content and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 algn="ctr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Study: Working with women in community m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 algn="ctr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see also handbo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 algn="ctr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 algn="ctr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handbook: “Training in a Tandem – A Planning Guide for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 algn="ctr">
              <a:tabLst>
                <a:tab algn="l" pos="0"/>
                <a:tab algn="l" pos="45252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workshops with Special Target Groups” / Mag Anu Pöyskö, Frank Ha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3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1052640"/>
            <a:ext cx="842472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spcBef>
                <a:spcPts val="1500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arriers to training for wo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1250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47760" indent="-1760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ack of child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147760" indent="-1760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iming of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147760" indent="-1760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petition with other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147760" indent="-1760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ack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147760" indent="-1760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ack of rol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940360" y="1628640"/>
            <a:ext cx="1511280" cy="14781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332000" y="3068640"/>
            <a:ext cx="785880" cy="863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435640" y="5300640"/>
            <a:ext cx="934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5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5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1052640"/>
            <a:ext cx="813780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1500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trate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43812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omen - only courses and tu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43812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438120">
              <a:lnSpc>
                <a:spcPct val="100000"/>
              </a:lnSpc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43812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orking through partnerships (tand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43812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43812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43812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arting off with ‘taster courses’ and building up to more   substantial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6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1052640"/>
            <a:ext cx="8424720" cy="49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deas for course content and organis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spcBef>
                <a:spcPts val="125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1760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volve participants i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17604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vide support for trainees (childcare,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ransport, expen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1760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nds-o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8892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1760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formal settings and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7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4000" y="189000"/>
            <a:ext cx="8569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I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aching The Trainers – learning and teach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4360" y="1484280"/>
            <a:ext cx="755964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is unit was crea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roline Mitche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versity of Sunderland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udel Günn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versity of Education Freiburg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Karin Ebl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ieslaw Olesk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versity of Lódz, Po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ynn Simp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versity of Sunderland, UK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411120"/>
            <a:ext cx="89643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ject-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Education Freibur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Germany (coordinating instit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Orange Wi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Robin Hood, Turku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e Radio Freudenstad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ivil Radio, Budape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diapolis R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Lód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boud University Nijmeg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557360"/>
            <a:ext cx="856908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UNIT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aching The Trainers – learning and teach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7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052640"/>
            <a:ext cx="849780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27648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By the end of the unit you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lnSpc>
                <a:spcPct val="120000"/>
              </a:lnSpc>
              <a:buClr>
                <a:srgbClr val="000066"/>
              </a:buClr>
              <a:buSzPct val="80000"/>
              <a:buFont typeface="Wingdings" charset="2"/>
              <a:buChar char="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nderstand the importance of student - centred, holistic teaching and  learning in the context of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ty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dia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lnSpc>
                <a:spcPct val="12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lnSpc>
                <a:spcPct val="120000"/>
              </a:lnSpc>
              <a:buClr>
                <a:srgbClr val="000066"/>
              </a:buClr>
              <a:buSzPct val="80000"/>
              <a:buFont typeface="Wingdings" charset="2"/>
              <a:buChar char="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 and plan a short teaching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lnSpc>
                <a:spcPct val="12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lnSpc>
                <a:spcPct val="120000"/>
              </a:lnSpc>
              <a:buClr>
                <a:srgbClr val="000066"/>
              </a:buClr>
              <a:buSzPct val="80000"/>
              <a:buFont typeface="Wingdings" charset="2"/>
              <a:buChar char="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se a range of different teaching methods and approaches for specialist interes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lnSpc>
                <a:spcPct val="12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lnSpc>
                <a:spcPct val="120000"/>
              </a:lnSpc>
              <a:buClr>
                <a:srgbClr val="000066"/>
              </a:buClr>
              <a:buSzPct val="80000"/>
              <a:buFont typeface="Wingdings" charset="2"/>
              <a:buChar char="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erience a ´mini teaching exercise´ and get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eedback on you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93960" y="1031760"/>
            <a:ext cx="5091120" cy="5062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33680" y="2584440"/>
            <a:ext cx="2008440" cy="2023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360000">
            <a:off x="4066920" y="981000"/>
            <a:ext cx="7365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4380000">
            <a:off x="5669280" y="2041920"/>
            <a:ext cx="743040" cy="20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400000">
            <a:off x="5108040" y="3867120"/>
            <a:ext cx="736920" cy="20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3200000">
            <a:off x="3029760" y="3866760"/>
            <a:ext cx="738360" cy="20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7100000">
            <a:off x="2359800" y="1985040"/>
            <a:ext cx="741240" cy="20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13320" y="1549440"/>
            <a:ext cx="18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1. Identif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54560" y="365436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2. State Aim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78320" y="5253120"/>
            <a:ext cx="20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26304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Design sess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27160" y="377352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4.</a:t>
            </a:r>
            <a:r>
              <a:rPr b="0" lang="de-DE" sz="1800" spc="-1" strike="noStrike">
                <a:solidFill>
                  <a:srgbClr val="26304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T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4080" y="1538280"/>
            <a:ext cx="22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5. Refle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evaluat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incorpo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6304c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300000">
            <a:off x="4171680" y="1573200"/>
            <a:ext cx="60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Wingdings 3"/>
                <a:ea typeface="Wingdings 3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4680000">
            <a:off x="5910120" y="261540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Wingdings 3"/>
                <a:ea typeface="Wingdings 3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8400000">
            <a:off x="5054040" y="4689360"/>
            <a:ext cx="7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Wingdings 3"/>
                <a:ea typeface="Wingdings 3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10080" y="2930400"/>
            <a:ext cx="167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Training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3200000">
            <a:off x="3041640" y="4571640"/>
            <a:ext cx="6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Wingdings 3"/>
                <a:ea typeface="Wingdings 3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7160000">
            <a:off x="2408760" y="2540520"/>
            <a:ext cx="87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Wingdings 3"/>
                <a:ea typeface="Wingdings 3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0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836640"/>
            <a:ext cx="842472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ining within Community Media (Rad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open to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ifferent peop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with different interests,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nowledge,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erience and tim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10000"/>
              </a:lnSpc>
              <a:tabLst>
                <a:tab algn="l" pos="0"/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ffers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ifferent topic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dapted to the different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arge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10000"/>
              </a:lnSpc>
              <a:tabLst>
                <a:tab algn="l" pos="0"/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amples of themes and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journalistic know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66"/>
              </a:buClr>
              <a:buFont typeface="Wingdings 3" charset="2"/>
              <a:buChar char=""/>
              <a:tabLst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chnical know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35388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est  delivered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onsistentl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ove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2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3284640"/>
            <a:ext cx="2238480" cy="3055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052640"/>
            <a:ext cx="842472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187560">
              <a:spcBef>
                <a:spcPts val="1500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ining within Community Media (Rad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spcBef>
                <a:spcPts val="499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spcBef>
                <a:spcPts val="1749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ople from different target grou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spcBef>
                <a:spcPts val="1500"/>
              </a:spcBef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arn to articulate themselves and their interests in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arn about the way radio / the media i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187560"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et a critical view towards the media and the consumption of media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3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32688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3 – Teaching The Trainers – learning and teach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5240" y="25560"/>
            <a:ext cx="3276360" cy="3682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836640"/>
            <a:ext cx="842472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71800">
              <a:tabLst>
                <a:tab algn="l" pos="0"/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skills are useful if you want to train with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tabLst>
                <a:tab algn="l" pos="0"/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munity radio 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lnSpc>
                <a:spcPct val="130000"/>
              </a:lnSpc>
              <a:tabLst>
                <a:tab algn="l" pos="0"/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est in and capacity for working with different people and targe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lnSpc>
                <a:spcPct val="110000"/>
              </a:lnSpc>
              <a:tabLst>
                <a:tab algn="l" pos="0"/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nowledge about and experience with group dynamics / working successfully withi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lnSpc>
                <a:spcPct val="110000"/>
              </a:lnSpc>
              <a:tabLst>
                <a:tab algn="l" pos="0"/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nowledge about and experience with different ways and methods of teaching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lnSpc>
                <a:spcPct val="110000"/>
              </a:lnSpc>
              <a:tabLst>
                <a:tab algn="l" pos="0"/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alist knowledge within the wide field of  radio production or broadcast jour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lnSpc>
                <a:spcPct val="110000"/>
              </a:lnSpc>
              <a:tabLst>
                <a:tab algn="l" pos="0"/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2718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154080"/>
                <a:tab algn="l" pos="176040"/>
                <a:tab algn="l" pos="1778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may not possess all these-some of the best training is done collaborative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4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1:29:32Z</dcterms:created>
  <dc:creator>User</dc:creator>
  <dc:description/>
  <dc:language>en-US</dc:language>
  <cp:lastModifiedBy>User</cp:lastModifiedBy>
  <dcterms:modified xsi:type="dcterms:W3CDTF">2007-01-30T14:12:22Z</dcterms:modified>
  <cp:revision>267</cp:revision>
  <dc:subject/>
  <dc:title>Folie 1</dc:title>
</cp:coreProperties>
</file>