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DB3-4323-481B-88C1-C8B2073E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187-8605-4282-A41D-5A4F2969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F3E-BAF9-43DE-AE3C-6BB0F6A7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BF1-1C27-41E7-A2B8-B79CEEE7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006-0C68-4389-8DC0-27CE51AE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487-4F83-4D52-8853-6F1B66F4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F35-6DA6-4A0B-A75F-9F433C0D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49C-2F69-4D20-9DCB-4EE08EC9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4E3-CE13-4E1F-B586-F68ECC0F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02A-499A-4261-888D-569A20ED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0E7-E125-4CC7-B277-956B7D3A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8B5-77C7-461B-BF8C-500C88D5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F97D-CA3C-4A4C-8C05-8DE3AB191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8032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: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INI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RO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842472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hecklist for future trainers of new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pen access - possibilities and limit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ublic influence (power), decisions on media content/style, learning that goes beyond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ersonal responsibility is an essential element of the collective effort; behaviour “on air” and toward radio colleagues deserves ongoing att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oadcasting on community radio requires commitment and skills (not only radio skills!) that can be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ordinators working at radio stations are professionals whose judgment should be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4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052640"/>
            <a:ext cx="8424720" cy="52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ome ways to avoid difficul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hare knowledge / skills within group, but do not use this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n place of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orkshop sessions, but rather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n addi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’s good to schedule occasional training session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10000"/>
              </a:lnSpc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proper handling of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10000"/>
              </a:lnSpc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leg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10000"/>
              </a:lnSpc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or editorial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rrange to meet other individuals and groups active in radio work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 the group has broadcasted material, listen to it together and discuss it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5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8000" y="1052640"/>
            <a:ext cx="9036000" cy="51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ome ways to avoid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ssistance the professional radio staff can give, e.g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pport in addressing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olving conflic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in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fining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rranging workshops on individual topics to improv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journalistic backgroun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editorial organisation, preparation, systematic use of information sources, technical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ublic relatio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ork: inclusion of info on group in flyer/brochure, website; production and broadcasting of jingles or promos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6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89000"/>
            <a:ext cx="8569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ublicity, Management, Dimen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f European Media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1989000"/>
            <a:ext cx="75596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is unit was crea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san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Radio Freudenstad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iona Stein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adio Orange Wien, 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iitta Haapako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adio Robin Hood, Turku,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Ádám Mag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vil Radio, Budapest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2320" y="4648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U-progra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ocrates Grundt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111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European projec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Competency &amp; Cultural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2852640"/>
            <a:ext cx="92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ordinated by the University of Education Frei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. Traudel Günn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7200" y="3733920"/>
            <a:ext cx="4032360" cy="53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51280" y="5229360"/>
            <a:ext cx="1368000" cy="864720"/>
            <a:chOff x="3851280" y="5229360"/>
            <a:chExt cx="1368000" cy="864720"/>
          </a:xfrm>
        </p:grpSpPr>
        <p:sp>
          <p:nvSpPr>
            <p:cNvPr id="54" name=""/>
            <p:cNvSpPr/>
            <p:nvPr/>
          </p:nvSpPr>
          <p:spPr>
            <a:xfrm>
              <a:off x="3851280" y="5229360"/>
              <a:ext cx="1368000" cy="86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930120" y="5313600"/>
              <a:ext cx="121680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411120"/>
            <a:ext cx="89643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ject-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Education Freibur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Germany (coordinating instit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Orange Wi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Robin Hood, Turku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e Radio Freudenstad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ivil Radio, Budape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diapolis R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Lód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boud University Nijmeg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557360"/>
            <a:ext cx="8569080" cy="31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ublicity, Managemant, Dimen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f European Media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247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ialogue - Why Say Any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Did you hear about what they want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h, that! You don’t take that seriously, d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I certainly do, and I think everyone shou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ll, just because you think it’s important, that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oesn’t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mean we all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Yeah, if you open your mouth, that doesn’t mean I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have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body ever listens to me anywa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I know what I think about it, and I don’t care what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nyone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else th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7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-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836640"/>
            <a:ext cx="8424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ialogue - Why Say Any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hy take an unnecessary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Somebody else might disagree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ince when does our opinion make any dif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I just have this gut feeling that it’s not right, but I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an’t say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Look, we can discuss it until we’re blue in the face,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y just won’t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Maybe we should organize a demon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ut then which one of us will give the spee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Not me, that’s for sure, I can’t talk to an aud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9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052640"/>
            <a:ext cx="842472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ialogue - Why Say Any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t me, either, people always laugh at my mist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No wonder, sometimes they’re pretty funn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Hey, let’s get back on tr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OK, so who is going to stand up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 can’t do it, my voice is too so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Me neither, I don’t want to get arr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y are going to go through with it anyway, no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matter what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: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ll right then, let’s get back to our own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0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842472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Universal Declarat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rticle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5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ryone has the right to freedom of opinion and expression; this right includes freedom to hold opinions without interference and to seek, receive and impart information and ideas through any media and regardless of front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1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4 –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ity, Management, Dimensions of European Media 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86407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hecklist for future trainers of new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ings to keep in mind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text of media politics - societal aims of community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ty media movement - local and global at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eedom of speech – participation in public 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ty media diversity vs. content and format of mainstream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30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1:29:32Z</dcterms:created>
  <dc:creator>User</dc:creator>
  <dc:description/>
  <dc:language>en-US</dc:language>
  <cp:lastModifiedBy>User</cp:lastModifiedBy>
  <dcterms:modified xsi:type="dcterms:W3CDTF">2007-01-30T14:34:44Z</dcterms:modified>
  <cp:revision>348</cp:revision>
  <dc:subject/>
  <dc:title>Folie 1</dc:title>
</cp:coreProperties>
</file>