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644-6557-401F-B4A4-D1B41148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776-6B00-4197-82F6-8617C2C9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467-381F-4987-9C04-85F8F83C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10D-2849-48E6-8AE1-4D846554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B44-6C8C-4E08-9E58-47B13A47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D13-EACD-4A6C-B468-A0DD635A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240-D138-4663-8C51-2030B8C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BA9-D801-400C-9CF2-D2EBA87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326-7BF5-43A2-BAFF-09B79D9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896-B555-4848-A940-7CA66A5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BF0-0C02-4DEC-82B1-5322A1C0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8C5-0099-492F-A5B6-14A1B73B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517A-68C9-42D6-96AE-89AAFCFB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871640" y="1268280"/>
            <a:ext cx="5402160" cy="3818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530064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aff member with headache, volunteers putting on a very lively sho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871640" y="1197000"/>
            <a:ext cx="5402160" cy="3817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157720"/>
            <a:ext cx="5256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esenters in the studio can’t seem to attract the attention of the volunteer at the mixing table, who is well on the way to meltdow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871640" y="1125360"/>
            <a:ext cx="5402160" cy="381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79640" y="5157720"/>
            <a:ext cx="5184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Volunteer to staff member: “Oh, I guess I forgot to mention that I would be bringing a couple of guests along to my show today 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052640"/>
            <a:ext cx="8424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Did you hear about what they wan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h, that! You don’t take that seriously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certainly do, and I think everyone shou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ll, just because you think it’s important, tha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oesn’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ean we a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Yeah, if you open your mouth, that doesn’t mean 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have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body ever listens to me any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know what I think about it, and I don’t care what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nyone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else th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-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836640"/>
            <a:ext cx="842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take an unnecessary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omebody else might disagree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ince when does our opinion make any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just have this gut feeling that it’s not right, but 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an’t say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Look, we can discuss it until we’re blue in the face,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y just won’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Maybe we should organize a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ut then which one of us will give the spee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Not me, that’s for sure, I can’t talk to an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1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1052640"/>
            <a:ext cx="842472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 me, either, people always laugh at my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No wonder, sometimes they’re pretty fu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ey, let’s get back on t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OK, so who is going to stand up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 can’t do it, my voice is too 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Me neither, I don’t want to get ar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y are going to go through with it anyway, no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atter wha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ll right then, let’s get back to our own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2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052640"/>
            <a:ext cx="842472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Universal Declar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rticl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5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yone has the right to freedom of opinion and expression; this right includes freedom to hold opinions without interference and to seek, receive and impart information and ideas through any media and regardless of front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3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052640"/>
            <a:ext cx="86407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ecklist for future trainers of new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ngs to keep in mind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ext of media politics - societal aims of community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media movement - local and global a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eedom of speech – participation in public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media diversity vs. content and format of mainstream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5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1052640"/>
            <a:ext cx="8424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ecklist for future trainers of new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pen access - possibilities and limi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ublic influence (power), decisions on media content/style, learning that goes beyond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sonal responsibility is an essential element of the collective effort; behaviour “on air” and toward radio colleagues deserves ongoing at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oadcasting on community radio requires commitment and skills (not only radio skills!) that can be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ordinators working at radio stations are professionals whose judgment should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6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1052640"/>
            <a:ext cx="842472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 ways to avoid difficul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are knowledge / skills within group, but do not use thi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n place of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orkshop sessions, but rathe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n addi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’s good to schedule occasional training session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proper handling of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leg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r editoria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rrange to meet other individuals and groups active in radio work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the group has broadcasted material, listen to it together and discuss it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7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8000" y="1052640"/>
            <a:ext cx="903600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 ways to avoid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sistance the professional radio staff can give, e.g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pport in addressing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lving conflic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in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fining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rranging workshops on individual topics to impro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journalistic backgrou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editorial organisation, preparation, systematic use of information sources, tech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ublic rela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ork: inclusion of info on group in flyer/brochure, website; production and broadcasting of jingles or promo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8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189000"/>
            <a:ext cx="85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blicity, Management, 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f European Media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1989000"/>
            <a:ext cx="75596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sa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Radio Freudenstad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ona Stein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o Orange Wien,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iitta Haapak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o Robin Hood, Turku,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Ádám Mag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vil Radio, Budapest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blicity, Managemant, 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f European Media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71640" y="1197000"/>
            <a:ext cx="5402160" cy="381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6200" y="5229360"/>
            <a:ext cx="62658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arly Sunday morning, a staff member is sleeping late. But soon, his phone will ring: the volunteer in the studio has got his signals scrambled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871640" y="1125360"/>
            <a:ext cx="5402160" cy="381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49440" y="5157720"/>
            <a:ext cx="6191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presenter at the microphone has heard something about copyright regulations, but thinks it would be alright to just read this one very good story on the radio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871640" y="1197000"/>
            <a:ext cx="5402160" cy="381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92360" y="515772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aff member struggles to complete funding application while board members and volunteers work on their motivation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2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71640" y="1197000"/>
            <a:ext cx="5402160" cy="381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5280" y="5157720"/>
            <a:ext cx="5472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Volunteer returning a mobile recording unit to staff member: “My interview worked out great! But there was a bit of a problem with this equipment 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84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871640" y="1197000"/>
            <a:ext cx="5402160" cy="381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63640" y="5300640"/>
            <a:ext cx="56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ureka!” It was a long debate, but now the board members are very proud of their idea for a new logo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4:34:52Z</dcterms:modified>
  <cp:revision>356</cp:revision>
  <dc:subject/>
  <dc:title>Folie 1</dc:title>
</cp:coreProperties>
</file>