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7EA-D090-49EB-9543-033E5376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605-4462-4638-8968-3558D4E8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DB3-6A2C-4AD6-881E-9F2F1890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9A0-F43C-40C4-93E7-60C39121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4F4-30C6-4F81-A249-9753DC40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F35-3547-4734-8A3C-101E2AAD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781-9E4A-40C7-90BF-F3CD3505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6A7-F288-4CAF-A878-D1EACCD0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ABF-E49B-49FE-AE21-8809DE6F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915-7E98-4BD6-ADF6-4FB323D5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E48-1062-447D-81C0-C08E374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CB3-DFC4-4DF2-A14D-0FA8F62C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DBF7-1D82-4081-AB3C-471DFD3EA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052640"/>
            <a:ext cx="828036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y do you need to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rove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rove training methods, materials,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tisfy fu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4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914400"/>
            <a:ext cx="828036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How do you know if training was success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Evaluation Instruments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6532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Questionnair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anonym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ake form/registr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open end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structur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nit-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open end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structur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532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iary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priv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532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Group discussion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publ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532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5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052640"/>
            <a:ext cx="828036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w let’s apply these ideas…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 algn="ctr">
              <a:spcBef>
                <a:spcPts val="700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o evaluate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 algn="ctr">
              <a:spcBef>
                <a:spcPts val="499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  <a:tab algn="l" pos="5229360"/>
                <a:tab algn="l" pos="542304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your own work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00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  <a:tab algn="l" pos="5229360"/>
                <a:tab algn="l" pos="542304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is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749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7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12840"/>
            <a:ext cx="8569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IT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aluation – a brief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652760"/>
            <a:ext cx="755964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is unit was crea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roline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udel Gü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versity of Education Freiburg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urice Verg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dboud University Nijmegen,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eatrice Barba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diapolis Rom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icholas Jankow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dboud University Nijmegen,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ter Lew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E London, UK (Consul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aluation - a brief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752480"/>
            <a:ext cx="798660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is unit comes at the end of the course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evaluation should be in your mind from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Very beginning, at the planning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052640"/>
            <a:ext cx="842472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2 Objective of Unit 5 –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125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125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. To explain evaluation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749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. To find out what you think of this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749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9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3048120" cy="3467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052640"/>
            <a:ext cx="828036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valuation in gener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nothing mysterious, anyone can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249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208764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  <a:tab algn="l" pos="5229360"/>
                <a:tab algn="l" pos="5423040"/>
                <a:tab algn="l" pos="5616720"/>
                <a:tab algn="l" pos="5810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are we trying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249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208764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  <a:tab algn="l" pos="5229360"/>
                <a:tab algn="l" pos="5423040"/>
                <a:tab algn="l" pos="5616720"/>
                <a:tab algn="l" pos="5810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are we trying to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249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208764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  <a:tab algn="l" pos="5229360"/>
                <a:tab algn="l" pos="5423040"/>
                <a:tab algn="l" pos="5616720"/>
                <a:tab algn="l" pos="5810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well are we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249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208764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  <a:tab algn="l" pos="5229360"/>
                <a:tab algn="l" pos="5423040"/>
                <a:tab algn="l" pos="5616720"/>
                <a:tab algn="l" pos="5810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can we do it differen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749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3048120" cy="3467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052640"/>
            <a:ext cx="828036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valuation in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4308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  <a:tab algn="l" pos="5229360"/>
                <a:tab algn="l" pos="542304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do we know if training was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  <a:tab algn="l" pos="5229360"/>
                <a:tab algn="l" pos="542304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y do we need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749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1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052640"/>
            <a:ext cx="828036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42720">
              <a:tabLst>
                <a:tab algn="l" pos="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How do you know if training was success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spcBef>
                <a:spcPts val="1500"/>
              </a:spcBef>
              <a:tabLst>
                <a:tab algn="l" pos="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Firs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are/were the objectiv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signs of success/failure = ‘indicato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mediate – observation, 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id-term –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ng-term - can trainees do what they’re trained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7-01-30T15:04:09Z</dcterms:modified>
  <cp:revision>256</cp:revision>
  <dc:subject/>
  <dc:title>Folie 1</dc:title>
</cp:coreProperties>
</file>