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4F8-464A-4865-BF87-8B2EA833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FE1-8448-4A88-92F3-D5313787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034-915C-4A5B-9AAB-5878C91B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C43-9BAC-4EE0-B625-5FE29C19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C7F-A9BA-4DCB-AE21-634707D4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D06-E630-479A-A6C3-4B789454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D5C-0196-4F57-8A67-B8E7F78F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9B0-D0E9-4B73-935F-C157005D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473-05F9-401C-8A64-780E8C86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E5F-7557-4443-9317-90A4C211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78A-E311-4C54-B1E6-D95EF8D5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C2F-E422-4BF2-892C-37E3BA94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EDEC-0237-415A-870B-43DFBCCD6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8032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T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: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INING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ROS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828036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2720">
              <a:spcBef>
                <a:spcPts val="1500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Monito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500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analytical method to produce information about the causes and effects of an 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30000"/>
              </a:lnSpc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749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 intervention is every planned action to invoke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250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nitoring focuses on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4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052640"/>
            <a:ext cx="828036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2720">
              <a:spcBef>
                <a:spcPts val="1500"/>
              </a:spcBef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751"/>
              </a:spcBef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751"/>
              </a:spcBef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 analytical method to produce information on the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value or the use of certain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aluation produces </a:t>
            </a: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‘evaluative claims’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; it answers the question: how important is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buClr>
                <a:srgbClr val="000066"/>
              </a:buClr>
              <a:buFont typeface="Arial"/>
              <a:buChar char="•"/>
              <a:tabLst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aluation focuses on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buClr>
                <a:srgbClr val="000066"/>
              </a:buClr>
              <a:buFont typeface="Arial"/>
              <a:buChar char="•"/>
              <a:tabLst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acts and values are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er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56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052640"/>
            <a:ext cx="828036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2720">
              <a:spcBef>
                <a:spcPts val="1500"/>
              </a:spcBef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ypes of evaluation instr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2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Questionnair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anonymo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10000"/>
              </a:lnSpc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ake form/registr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10000"/>
              </a:lnSpc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 open end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10000"/>
              </a:lnSpc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 structur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10000"/>
              </a:lnSpc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10000"/>
              </a:lnSpc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nit-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10000"/>
              </a:lnSpc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 Open end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10000"/>
              </a:lnSpc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 Structur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buClr>
                <a:srgbClr val="000066"/>
              </a:buClr>
              <a:buFont typeface="Arial"/>
              <a:buChar char="•"/>
              <a:tabLst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iary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priv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buClr>
                <a:srgbClr val="000066"/>
              </a:buClr>
              <a:buFont typeface="Arial"/>
              <a:buChar char="•"/>
              <a:tabLst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Group discussion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publ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69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5280" y="1052640"/>
            <a:ext cx="828036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2720">
              <a:spcBef>
                <a:spcPts val="1500"/>
              </a:spcBef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Objectives and indic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250"/>
              </a:spcBef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Based on objectives formulated for specific units, indicators are identified to determine to what degree an objective has been m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2001"/>
              </a:spcBef>
              <a:tabLst>
                <a:tab algn="l" pos="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82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312840"/>
            <a:ext cx="8569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UNIT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valuation – a brief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1652760"/>
            <a:ext cx="755964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is unit was creat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urice Verg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adboud University Nijmegen,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udel Gü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iversity of Education Freiburg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eatrice Barbal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diapolis Rom,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icholas Jankow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adboud University Nijmegen,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ter Lew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SE London, UK (Consul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22320" y="46483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rte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U-program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Socrates Grundtv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91116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European projec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dia Competency &amp; Cultural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2852640"/>
            <a:ext cx="92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ordinated by the University of Education Freiburg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. Traudel Günn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27200" y="3733920"/>
            <a:ext cx="4032360" cy="5396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51280" y="5229360"/>
            <a:ext cx="1368000" cy="864720"/>
            <a:chOff x="3851280" y="5229360"/>
            <a:chExt cx="1368000" cy="864720"/>
          </a:xfrm>
        </p:grpSpPr>
        <p:sp>
          <p:nvSpPr>
            <p:cNvPr id="54" name=""/>
            <p:cNvSpPr/>
            <p:nvPr/>
          </p:nvSpPr>
          <p:spPr>
            <a:xfrm>
              <a:off x="3851280" y="5229360"/>
              <a:ext cx="1368000" cy="86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930120" y="5313600"/>
              <a:ext cx="1216800" cy="69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240" y="411120"/>
            <a:ext cx="8964360" cy="63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ject-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versity of Education Freibur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Germany (coordinating instit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Orange Wi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Aust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Robin Hood, Turku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ee Radio Freudenstad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cientific Advisory Institute of the Youth Aid Organisation of Freibur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ivil Radio, Budapes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Hun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diapolis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Lódz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boud University Nijmeg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Sunderlan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557360"/>
            <a:ext cx="856908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UNI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valuation - a brief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24720" cy="52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2720">
              <a:spcBef>
                <a:spcPts val="1500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Objective of Unit 5: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3501"/>
              </a:spcBef>
              <a:buClr>
                <a:srgbClr val="000066"/>
              </a:buClr>
              <a:buFont typeface="Arial"/>
              <a:buAutoNum type="arabicPeriod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understand the need and rationale for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3501"/>
              </a:spcBef>
              <a:buClr>
                <a:srgbClr val="000066"/>
              </a:buClr>
              <a:buFont typeface="Arial"/>
              <a:buAutoNum type="arabicPeriod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be introduced to different types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3501"/>
              </a:spcBef>
              <a:buClr>
                <a:srgbClr val="000066"/>
              </a:buClr>
              <a:buFont typeface="Arial"/>
              <a:buAutoNum type="arabicPeriod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gain an overview of different methods and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3501"/>
              </a:spcBef>
              <a:buClr>
                <a:srgbClr val="000066"/>
              </a:buClr>
              <a:buFont typeface="Arial"/>
              <a:buAutoNum type="arabicPeriod"/>
              <a:tabLst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be able to identify different contexts in which particular instruments are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7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052640"/>
            <a:ext cx="842472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2720">
              <a:spcBef>
                <a:spcPts val="1500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hat is eval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876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876"/>
              </a:spcBef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 algn="ctr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general idea of evaluation is to deter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 algn="ctr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 algn="ctr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Wingdings 2"/>
                <a:ea typeface="Wingdings 2"/>
              </a:rPr>
              <a:t>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it good?, Did it go w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 algn="ctr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 algn="ctr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 algn="ctr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 algn="ctr">
              <a:lnSpc>
                <a:spcPct val="130000"/>
              </a:lnSpc>
              <a:tabLst>
                <a:tab algn="l" pos="0"/>
                <a:tab algn="l" pos="17604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it bad? </a:t>
            </a:r>
            <a:r>
              <a:rPr b="1" lang="en-GB" sz="2800" spc="-1" strike="noStrike">
                <a:solidFill>
                  <a:srgbClr val="000066"/>
                </a:solidFill>
                <a:latin typeface="Wingdings 2"/>
                <a:ea typeface="Wingdings 2"/>
              </a:rPr>
              <a:t>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9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867280" y="2421000"/>
            <a:ext cx="3048120" cy="3467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052640"/>
            <a:ext cx="828036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2720">
              <a:spcBef>
                <a:spcPts val="1500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hy eval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250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30000"/>
              </a:lnSpc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ry good educational programme or policy 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30000"/>
              </a:lnSpc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pecific Objectives that are to be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30000"/>
              </a:lnSpc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30000"/>
              </a:lnSpc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sting whether objectives set at the beginning are met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lnSpc>
                <a:spcPct val="130000"/>
              </a:lnSpc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mprovement of the programme or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04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052640"/>
            <a:ext cx="8785440" cy="51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42720">
              <a:spcBef>
                <a:spcPts val="1500"/>
              </a:spcBef>
              <a:tabLst>
                <a:tab algn="l" pos="0"/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hases of monitoring and e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42720">
              <a:lnSpc>
                <a:spcPct val="115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blem 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4272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36320">
              <a:lnSpc>
                <a:spcPct val="115000"/>
              </a:lnSpc>
              <a:tabLst>
                <a:tab algn="l" pos="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sadvantaged groups such as working-class persons with limited schooling, women, migrants and residents of rural areas lack sufficient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ccess to the public 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42720">
              <a:lnSpc>
                <a:spcPct val="115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verall objective M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42720">
              <a:lnSpc>
                <a:spcPct val="115000"/>
              </a:lnSpc>
              <a:tabLst>
                <a:tab algn="l" pos="0"/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36320">
              <a:lnSpc>
                <a:spcPct val="115000"/>
              </a:lnSpc>
              <a:tabLst>
                <a:tab algn="l" pos="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o strengthen media competence / media literacy / digital skills, and to improve participants’ facility in self expression and their access to the public 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17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1360" y="344520"/>
            <a:ext cx="79250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5 – Evaluation – a brief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304c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052640"/>
            <a:ext cx="828036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2720">
              <a:spcBef>
                <a:spcPts val="1500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hases of monitoring and e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125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ctio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raining course as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5320" indent="-343080">
              <a:lnSpc>
                <a:spcPct val="100000"/>
              </a:lnSpc>
              <a:tabLst>
                <a:tab algn="l" pos="0"/>
                <a:tab algn="l" pos="176040"/>
                <a:tab algn="l" pos="17784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  <a:tab algn="l" pos="5035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nitoring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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on key indic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624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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termining whether targets, initially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t, ar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624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oblem sol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2720">
              <a:spcBef>
                <a:spcPts val="499"/>
              </a:spcBef>
              <a:tabLst>
                <a:tab algn="l" pos="0"/>
                <a:tab algn="l" pos="176040"/>
                <a:tab algn="l" pos="17784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65320" indent="-343080">
              <a:lnSpc>
                <a:spcPct val="130000"/>
              </a:lnSpc>
              <a:tabLst>
                <a:tab algn="l" pos="0"/>
                <a:tab algn="l" pos="176040"/>
                <a:tab algn="l" pos="17784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  <a:tab algn="l" pos="50356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o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ack to problem 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5320" indent="-343080">
              <a:lnSpc>
                <a:spcPct val="130000"/>
              </a:lnSpc>
              <a:tabLst>
                <a:tab algn="l" pos="0"/>
                <a:tab algn="l" pos="176040"/>
                <a:tab algn="l" pos="17784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  <a:tab algn="l" pos="4260960"/>
                <a:tab algn="l" pos="4454640"/>
                <a:tab algn="l" pos="4648320"/>
                <a:tab algn="l" pos="4842000"/>
                <a:tab algn="l" pos="503568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Yes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30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1:29:32Z</dcterms:created>
  <dc:creator>User</dc:creator>
  <dc:description/>
  <dc:language>en-US</dc:language>
  <cp:lastModifiedBy>User</cp:lastModifiedBy>
  <dcterms:modified xsi:type="dcterms:W3CDTF">2007-01-30T14:53:02Z</dcterms:modified>
  <cp:revision>257</cp:revision>
  <dc:subject/>
  <dc:title>Folie 1</dc:title>
</cp:coreProperties>
</file>