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9975" cy="42806938"/>
  <p:notesSz cx="29818013" cy="42343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A14-9FDC-4F91-99EC-25780125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231-DCE9-4AAE-9DBA-2DA6C7B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CAF-D8F9-4ABB-8719-52A5AB1A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800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4184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416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800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4184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4CA-1B74-4E77-BE51-67510229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1DD-C1C4-40B1-A2E1-710F3D78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7F0-4051-4962-A445-2AB95FB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CCC-6452-4ED0-84B6-5E2655F1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60E-86DC-4A8A-A7FB-D992210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4160" y="1714320"/>
            <a:ext cx="2725092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CAD-EB1B-4A89-9528-76E0F84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E0F-ADE8-4864-815D-C850876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EC9-DC7B-466B-83B4-00D9A3D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796-3601-4C76-B687-28B6DE2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224"/>
              </a:spcBef>
              <a:buClr>
                <a:srgbClr val="000000"/>
              </a:buClr>
              <a:buFont typeface="Courier New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 algn="just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 algn="just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 algn="just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 algn="just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 algn="just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 algn="just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4160" y="38984040"/>
            <a:ext cx="7064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5320" y="38984040"/>
            <a:ext cx="9588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700800" y="38984040"/>
            <a:ext cx="7064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D5D-B961-46FF-B53A-A3C64814DE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-341280" y="40846320"/>
            <a:ext cx="30962520" cy="230508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9"/>
          <p:cNvSpPr/>
          <p:nvPr/>
        </p:nvSpPr>
        <p:spPr>
          <a:xfrm>
            <a:off x="378000" y="4770360"/>
            <a:ext cx="29378160" cy="439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Thema und Fragestellung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Wir haben Rock/Pop Konzerte mit  Klassik Konzerten verglichen. Unsere Fragestellung hieß: Wie unterscheidet sich das Publikum in einem Rock/Pop Konzert im Jazzhaus von dem in einem Sinfonieorchesterkonzert im Konzerthaus?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3"/>
          <p:cNvSpPr/>
          <p:nvPr/>
        </p:nvSpPr>
        <p:spPr>
          <a:xfrm>
            <a:off x="593640" y="41206680"/>
            <a:ext cx="16994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1" lang="de-DE" sz="3700" spc="-1" strike="noStrike">
                <a:solidFill>
                  <a:srgbClr val="000000"/>
                </a:solidFill>
                <a:latin typeface="Arial"/>
              </a:rPr>
              <a:t>Kontakt: </a:t>
            </a:r>
            <a:r>
              <a:rPr b="0" lang="de-DE" sz="3700" spc="-1" strike="noStrike">
                <a:solidFill>
                  <a:srgbClr val="000000"/>
                </a:solidFill>
                <a:latin typeface="Arial"/>
              </a:rPr>
              <a:t>Katharina, Julia, Carina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13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de-DE" sz="3700" spc="-1" strike="noStrike">
                <a:solidFill>
                  <a:srgbClr val="000000"/>
                </a:solidFill>
                <a:latin typeface="Arial"/>
              </a:rPr>
              <a:t>Realschule Titisee Neustad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3"/>
          <p:cNvSpPr/>
          <p:nvPr/>
        </p:nvSpPr>
        <p:spPr>
          <a:xfrm>
            <a:off x="8586720" y="233280"/>
            <a:ext cx="14401800" cy="453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5437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Grafik 80" descr="540px-Logo_Robert_Bosch_Stiftung.svg.png"/>
          <p:cNvPicPr/>
          <p:nvPr/>
        </p:nvPicPr>
        <p:blipFill>
          <a:blip r:embed="rId1"/>
          <a:stretch/>
        </p:blipFill>
        <p:spPr>
          <a:xfrm>
            <a:off x="22596480" y="41439960"/>
            <a:ext cx="7715160" cy="857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9"/>
          <p:cNvSpPr/>
          <p:nvPr/>
        </p:nvSpPr>
        <p:spPr>
          <a:xfrm>
            <a:off x="466560" y="17659440"/>
            <a:ext cx="29289600" cy="688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TeilnehmerInnen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Bei der Umfrage haben 88 Besucher beim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ACDC“ und 95 Besucher beim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Konzert des SWR-Orchesters teilgenommen.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Insgesamt waren 59,4% der Befragten männlich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und 40,6% weiblich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c1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9"/>
          <p:cNvSpPr/>
          <p:nvPr/>
        </p:nvSpPr>
        <p:spPr>
          <a:xfrm>
            <a:off x="623880" y="24860160"/>
            <a:ext cx="29378160" cy="8839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Ergebnisse:</a:t>
            </a:r>
            <a:r>
              <a:rPr b="1" lang="de-DE" sz="5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Alter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Besondere Kleid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9"/>
          <p:cNvSpPr/>
          <p:nvPr/>
        </p:nvSpPr>
        <p:spPr>
          <a:xfrm>
            <a:off x="378000" y="34005960"/>
            <a:ext cx="29624040" cy="662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Diskussion:</a:t>
            </a:r>
            <a:r>
              <a:rPr b="1" lang="de-DE" sz="59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Die wichtigste Schlussfolgerung ist, dass das Publikum beim ACDC Konzert überwiegend aus Männern bestand. Überraschenderweise waren im Pop-/Rockkonzert mehr ältere Personen (&gt; 25 J.) als im Sinfoniekonzert. Das könnte daran liegen, dass es sich um ein Jugend-Sinfoniekonzert handelte und ACDC eher von älteren „Jugendlichen“ gehört wird. Ebenso überraschte, dass man im Pop/Rockkonzert der Kleidung mehr Beachtung schenkt und die durchschnittlichen Ausgaben pro Konzert für diese Musik höher sind.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9"/>
          <p:cNvSpPr/>
          <p:nvPr/>
        </p:nvSpPr>
        <p:spPr>
          <a:xfrm>
            <a:off x="0" y="0"/>
            <a:ext cx="30279960" cy="4770360"/>
          </a:xfrm>
          <a:prstGeom prst="rect">
            <a:avLst/>
          </a:prstGeom>
          <a:solidFill>
            <a:srgbClr val="99cc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200" spc="-1" strike="noStrike">
                <a:solidFill>
                  <a:srgbClr val="002060"/>
                </a:solidFill>
                <a:latin typeface="Arial"/>
              </a:rPr>
              <a:t>Unterschied zwischen Rock/Pop Konzert und Klassik Konzert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15944760" y="9450360"/>
            <a:ext cx="13644720" cy="785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Forschungsmethoden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Wir haben die Befragung mit Fragebögen durchgeführt. Dort waren verschiedene Fragen aufgelistet wie beispielsweise Alter, Konzertbesuche pro Jahr und ob man  eine besondere Kleidung trägt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378000" y="9450360"/>
            <a:ext cx="15376320" cy="785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8000" rIns="73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500" spc="-1" strike="noStrike" u="sng">
                <a:solidFill>
                  <a:srgbClr val="002060"/>
                </a:solidFill>
                <a:uFillTx/>
                <a:latin typeface="Arial"/>
              </a:rPr>
              <a:t>Hintergrund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000000"/>
                </a:solidFill>
                <a:latin typeface="Arial"/>
              </a:rPr>
              <a:t>Wir wollten den Unterschied zwischen dem Publikum in einem Rock/Pop und Klassik Konzert vergleichen. Wir dachten, dass es Unterschiede bezüglich des Alters, des Musikgeschmackes und den Ausgaben pro Jahr für ein Konzert zwischen dem Publikum geben wird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>
            <a:off x="14690880" y="41462280"/>
            <a:ext cx="7905600" cy="8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3"/>
          <a:srcRect l="50022" t="0" r="0" b="0"/>
          <a:stretch/>
        </p:blipFill>
        <p:spPr>
          <a:xfrm>
            <a:off x="12526920" y="4093704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54" name="Diagramm 15" descr=""/>
          <p:cNvPicPr/>
          <p:nvPr/>
        </p:nvPicPr>
        <p:blipFill>
          <a:blip r:embed="rId4"/>
          <a:stretch/>
        </p:blipFill>
        <p:spPr>
          <a:xfrm>
            <a:off x="18307080" y="18714960"/>
            <a:ext cx="10503000" cy="6126120"/>
          </a:xfrm>
          <a:prstGeom prst="rect">
            <a:avLst/>
          </a:prstGeom>
          <a:ln w="0">
            <a:noFill/>
          </a:ln>
        </p:spPr>
      </p:pic>
      <p:pic>
        <p:nvPicPr>
          <p:cNvPr id="55" name="Diagramm 16" descr=""/>
          <p:cNvPicPr/>
          <p:nvPr/>
        </p:nvPicPr>
        <p:blipFill>
          <a:blip r:embed="rId5"/>
          <a:stretch/>
        </p:blipFill>
        <p:spPr>
          <a:xfrm>
            <a:off x="622440" y="26596800"/>
            <a:ext cx="8497800" cy="5688360"/>
          </a:xfrm>
          <a:prstGeom prst="rect">
            <a:avLst/>
          </a:prstGeom>
          <a:ln w="0">
            <a:noFill/>
          </a:ln>
        </p:spPr>
      </p:pic>
      <p:pic>
        <p:nvPicPr>
          <p:cNvPr id="56" name="Diagramm 17" descr=""/>
          <p:cNvPicPr/>
          <p:nvPr/>
        </p:nvPicPr>
        <p:blipFill>
          <a:blip r:embed="rId6"/>
          <a:stretch/>
        </p:blipFill>
        <p:spPr>
          <a:xfrm>
            <a:off x="9107640" y="26389080"/>
            <a:ext cx="8497800" cy="6194520"/>
          </a:xfrm>
          <a:prstGeom prst="rect">
            <a:avLst/>
          </a:prstGeom>
          <a:ln w="0">
            <a:noFill/>
          </a:ln>
        </p:spPr>
      </p:pic>
      <p:sp>
        <p:nvSpPr>
          <p:cNvPr id="57" name="Textfeld 1"/>
          <p:cNvSpPr/>
          <p:nvPr/>
        </p:nvSpPr>
        <p:spPr>
          <a:xfrm>
            <a:off x="16652880" y="29684520"/>
            <a:ext cx="13349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e Besucher unterscheiden sich hinsichtlich der Anzahl der besuchten Konzerte nicht wesentlich. Besonders auffallend: Männer und ältere Personen achten signifikant weniger auf Kleidu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iagramm 20" descr=""/>
          <p:cNvPicPr/>
          <p:nvPr/>
        </p:nvPicPr>
        <p:blipFill>
          <a:blip r:embed="rId7"/>
          <a:stretch/>
        </p:blipFill>
        <p:spPr>
          <a:xfrm>
            <a:off x="19311840" y="25146000"/>
            <a:ext cx="9595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2:35:43Z</dcterms:created>
  <dc:creator>Kempa</dc:creator>
  <dc:description/>
  <dc:language>en-US</dc:language>
  <cp:lastModifiedBy>Franziska</cp:lastModifiedBy>
  <dcterms:modified xsi:type="dcterms:W3CDTF">2013-06-13T20:20:22Z</dcterms:modified>
  <cp:revision>106</cp:revision>
  <dc:subject/>
  <dc:title>Musik in Freiburg</dc:title>
</cp:coreProperties>
</file>